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19.jpeg" ContentType="image/jpeg"/>
  <Override PartName="/ppt/media/image22.jpeg" ContentType="image/jpeg"/>
  <Override PartName="/ppt/media/image39.png" ContentType="image/png"/>
  <Override PartName="/ppt/media/image20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28.png" ContentType="image/png"/>
  <Override PartName="/ppt/media/image7.jpeg" ContentType="image/jpeg"/>
  <Override PartName="/ppt/media/image32.png" ContentType="image/png"/>
  <Override PartName="/ppt/media/image33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37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525000" cy="7621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1B89-BAF0-4742-B2A6-73B84AC0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472-07F0-4FC8-858A-BE83817F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FC32-668D-4776-9C43-6776D9D7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0918-A4D6-43E9-804C-43695F63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6924-898B-4415-89BE-F2028BC9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654B-BBB8-4A1A-80F2-06889A3A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57E3-C551-42E4-AC44-7BE322D7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2E41-D1E2-4ED5-81DF-852F7CD6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1BC9-A58C-40E7-B453-E6BB2DBB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4321-6AD0-4422-92D0-9BBDD053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70E9-B130-4EDF-BFE3-917396EF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2AB1-B824-4F14-B824-A2405CAC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8A4F-8A9B-4B6F-875D-346CBF48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C849-AA06-409A-A8C9-9F99AB32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98C8-56C6-4654-A17D-69ECE85A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72C2-596B-4314-8772-1B74D798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3E69-B4B8-400D-94C5-C45F66029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4CC18-7708-40DC-A268-C9EB5F06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828B2-5CAA-46B4-B30A-B4611A51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00FC7-CAAD-48CA-8EDF-449FAA49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34BBD-4260-48F2-BB52-41804A74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230C7-4355-42E1-B827-21BCAB37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00C-381D-4E1D-8743-6C696CCC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F57C2-A68B-4A33-A6A5-99991490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7F353-213C-4FEB-A935-79796111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868F0-0EE2-4305-B308-20FC0E90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AB5EF-BAB6-4EE2-894F-47668E3B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CD0D9-1B12-485A-BF61-7AD75742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A472F-B6D6-4859-8976-07BAF816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80EE6-F5FA-4E42-BB0D-7750F82B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A90F7-C8D6-4098-A852-E856182E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45A83-06E7-4E14-A077-C570AD7C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7DB4A-673D-42F9-BDCA-8DE60CC1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9BC1-ED5A-479A-815E-E6EB6A3C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60C4F-BCFB-44B8-84AB-F9F514DB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76784-FAC7-4ED5-9C6B-114B0C4F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32A84-8C8D-4053-AEB3-D3B121CD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A0F94-A92D-45E7-83E6-522C0B2A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42A3E-2D53-4340-8BD8-D2F57F37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320E7-88E1-4137-BFFC-68A115A8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EA900-F714-4F27-8991-2A5C826A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33354-B710-49DE-856C-17A6A692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59861-F431-4790-8195-93BE0681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2FC6C-EE10-4AF9-99DF-D45909C5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6C50-B029-4BC2-8D36-E42BBBE9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7470D-6E76-47AF-B830-1A471D09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5E7DE-A2D6-4327-B831-3A6B43B3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465EC-EE60-4AEB-BE19-05B9306B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94BA5-8C00-4DAB-AF62-918F2E05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4DFAC-6445-4992-84DA-654C184D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C67F7-D0AD-47A8-BD68-F9DA4426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03341-6842-48D7-8DB5-9C98E831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A8548-FEBB-4F37-866D-58E3B92F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BA39A-6F40-4842-9FD3-78BE6ACA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FAFF9-41C1-4889-AA63-3CFF117B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B2C4-8CD3-43DB-AEC5-6175A078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AEDA3-C8F2-461B-AC6E-C4401AC9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90251-64CB-4ADA-8362-A00F853C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26601-EDF4-45D9-B6E5-94CEF1CD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CD1E0-4825-4863-902B-88EA27C2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B5E59-9A30-43C9-9A52-7124328D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FF1E9-FAF6-4F4D-821D-8A8241CF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44DE3-4CC0-4624-8EFA-742C8EBB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8EE53-A995-4C7B-88F8-E4C05730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EE778-6DB9-491B-9F0B-84F32029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47642-90B7-4088-905D-4359BB62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70DF-FB0B-4E4B-8660-D16818B5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FA351-735C-4134-868A-CAF54196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1E5BE-0FD5-46C2-A28C-8FCE61CB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BC648-1E09-42E6-B9B9-85BDC906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9D1C8-AAA0-4008-A1B9-E55F28B3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FD2FB-0F34-44E2-8AB9-5C0D95AB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495F4-3391-4828-B0CC-21BDADD6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20254-3FB9-4794-B9BC-BD5E320F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C0ACB-1DF9-4898-ABA2-23936B15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BD726-C61A-4527-B7A9-9667B85C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38D14-8F60-4686-AA3E-DE5C05AD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AB29-C8F1-4B7F-9B39-780CDDFD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FFC4A-08E3-481E-A436-8346EBF3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9CF58-F79E-46E7-8FA5-59ED0583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82F7E-91AF-4C6A-9470-4E780332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D9C8D-1257-4F78-99A2-278F9FFD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9867E-BDC8-4C1B-8450-86E79F12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421C-867D-48F2-AD8D-B575610B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991040" y="720252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75920" y="7202520"/>
            <a:ext cx="44370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92D5-95E8-4652-886A-E37B730C8975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802280" y="588276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428480" y="6679800"/>
            <a:ext cx="6032520" cy="4050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428480" y="6276600"/>
            <a:ext cx="6032520" cy="406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740440" y="6392880"/>
            <a:ext cx="523800" cy="404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C232-E39C-4B65-8B35-C94B8D0CB338}" type="slidenum"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991040" y="720108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75920" y="7202520"/>
            <a:ext cx="44370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FBD1-E72C-4BF2-97D0-FC3A0B16D1F2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540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802280" y="38772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12 Conector recto"/>
          <p:cNvSpPr/>
          <p:nvPr/>
        </p:nvSpPr>
        <p:spPr>
          <a:xfrm flipH="1" flipV="1">
            <a:off x="6738480" y="1080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14 Conector recto"/>
          <p:cNvSpPr/>
          <p:nvPr/>
        </p:nvSpPr>
        <p:spPr>
          <a:xfrm flipV="1">
            <a:off x="0" y="612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7246800" y="7196040"/>
            <a:ext cx="2222640" cy="3398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728800" y="7202520"/>
            <a:ext cx="4438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802360" y="900000"/>
            <a:ext cx="523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D696-B17A-4053-9E70-E7BCAB880DD1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990680" y="7202520"/>
            <a:ext cx="22194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76280" y="7202520"/>
            <a:ext cx="44388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905600" y="7203600"/>
            <a:ext cx="524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0A6B-7A02-447C-994D-FB6BC780E0B0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540480" y="7284600"/>
            <a:ext cx="22226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82240" y="7284600"/>
            <a:ext cx="535788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760960" y="7284600"/>
            <a:ext cx="52380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B101-3DF8-44E1-904E-A229AB46332C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362280" y="7284600"/>
            <a:ext cx="2189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219320" y="7286760"/>
            <a:ext cx="515448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59360" y="7284600"/>
            <a:ext cx="3812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A4D8-900F-4C46-8686-4B29AA2384D5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76280" y="1947960"/>
            <a:ext cx="8572320" cy="48592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Dirección Nacional de Aeronáutica Civil – DINAC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INFORME DE COMITÉ FAL AEROPUERTO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LIC. VICTOR VELAZQUEZ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26-07-201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2" name="3 Imagen" descr="bandera.png"/>
          <p:cNvPicPr/>
          <p:nvPr/>
        </p:nvPicPr>
        <p:blipFill>
          <a:blip r:embed="rId1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3" name="5 Imagen" descr="logo_resto.jpg"/>
          <p:cNvPicPr/>
          <p:nvPr/>
        </p:nvPicPr>
        <p:blipFill>
          <a:blip r:embed="rId2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http://www.dinac.gov.py/v2/media/k2/items/cache/71601b6fd7fc74a9f4eea8e6c1b43d35_XL.jpg"/>
          <p:cNvPicPr/>
          <p:nvPr/>
        </p:nvPicPr>
        <p:blipFill>
          <a:blip r:embed="rId3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1 Título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815320" cy="1749600"/>
          </a:xfrm>
          <a:prstGeom prst="rect">
            <a:avLst/>
          </a:prstGeom>
          <a:ln w="0">
            <a:noFill/>
          </a:ln>
        </p:spPr>
      </p:pic>
      <p:sp>
        <p:nvSpPr>
          <p:cNvPr id="420" name="1 Título"/>
          <p:cNvSpPr/>
          <p:nvPr/>
        </p:nvSpPr>
        <p:spPr>
          <a:xfrm>
            <a:off x="5119560" y="5238720"/>
            <a:ext cx="401796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1100" spc="-1" strike="noStrike">
                <a:solidFill>
                  <a:srgbClr val="000000"/>
                </a:solidFill>
                <a:latin typeface="Arial"/>
                <a:ea typeface="Arial"/>
              </a:rPr>
              <a:t>SE CONTRATO LOS SERVICIOS DE CONSULTORIA PARA LA CERTIFICACION ISO 9001/2008, DE LOS SERVICIOS AEROPORTUARIOS DEL AISP, EN TOTAL 15 PROCESOS RELACIONADOS A LA ATENCION DE PASAJEROS Y A LA SEGURIDAD OPERACIONAL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600"/>
            </a:b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1" name="Picture 5" descr="C:\Users\Usuario\Documents\ESCAN ISO.jpg"/>
          <p:cNvPicPr/>
          <p:nvPr/>
        </p:nvPicPr>
        <p:blipFill>
          <a:blip r:embed="rId2"/>
          <a:stretch/>
        </p:blipFill>
        <p:spPr>
          <a:xfrm rot="21184800">
            <a:off x="604800" y="1793880"/>
            <a:ext cx="4621320" cy="24145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Users\Usuario\AppData\Local\Microsoft\Windows\Temporary Internet Files\Low\Content.IE5\18YWFR88\IMG-20140106-WA0002[1].jpg"/>
          <p:cNvPicPr/>
          <p:nvPr/>
        </p:nvPicPr>
        <p:blipFill>
          <a:blip r:embed="rId3"/>
          <a:stretch/>
        </p:blipFill>
        <p:spPr>
          <a:xfrm>
            <a:off x="619200" y="45957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C:\Users\Usuario\AppData\Local\Microsoft\Windows\Temporary Internet Files\Low\Content.IE5\QUDQGEZE\IMG-20140106-WA0001[1].jpg"/>
          <p:cNvPicPr/>
          <p:nvPr/>
        </p:nvPicPr>
        <p:blipFill>
          <a:blip r:embed="rId4"/>
          <a:stretch/>
        </p:blipFill>
        <p:spPr>
          <a:xfrm>
            <a:off x="5119560" y="1666800"/>
            <a:ext cx="417204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3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12920" y="2770200"/>
            <a:ext cx="5024160" cy="36799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Tahoma"/>
              </a:rPr>
              <a:t>PRESENTACIÓN DEL RESULTADO DE ENCUESTAS REALIZADAS EN EL AISP 2016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000" spc="-1" strike="noStrike">
                <a:solidFill>
                  <a:srgbClr val="000000"/>
                </a:solidFill>
                <a:latin typeface="Tahoma"/>
              </a:rPr>
              <a:t>LICITACIÓN POR CONCURSO DE OFERTAS N° 29/2015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ormulario de Encuesta utilizado FL-SGC-10 V00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Periodo: 11 de Enero y el 28 de Enero del 2016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ueron encuestadas 510 personas y respondienron 315 persona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Encuestas realizadas de manera personalizad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Las encuestas se realizaron en diferentes Horarios (Madrugada,Mañana, Tarde, Noche)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Muestras tomadas en el área  de estacionamiento,  embarque y desembarque, área restringida y pública, pasajeros y acompañante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1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3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5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7" name="6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1 Título" descr=""/>
          <p:cNvPicPr/>
          <p:nvPr/>
        </p:nvPicPr>
        <p:blipFill>
          <a:blip r:embed="rId1"/>
          <a:stretch/>
        </p:blipFill>
        <p:spPr>
          <a:xfrm>
            <a:off x="139680" y="6132600"/>
            <a:ext cx="6346800" cy="1116000"/>
          </a:xfrm>
          <a:prstGeom prst="rect">
            <a:avLst/>
          </a:prstGeom>
          <a:ln w="0">
            <a:noFill/>
          </a:ln>
        </p:spPr>
      </p:pic>
      <p:pic>
        <p:nvPicPr>
          <p:cNvPr id="439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1 Título"/>
          <p:cNvSpPr/>
          <p:nvPr/>
        </p:nvSpPr>
        <p:spPr>
          <a:xfrm>
            <a:off x="262080" y="6130800"/>
            <a:ext cx="62262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600" spc="-1" strike="noStrike">
                <a:solidFill>
                  <a:srgbClr val="7f7f7f"/>
                </a:solidFill>
                <a:latin typeface="Tahoma"/>
              </a:rPr>
              <a:t>CHECK IN COMPAÑÍA AÉRE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1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3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1 Título" descr=""/>
          <p:cNvPicPr/>
          <p:nvPr/>
        </p:nvPicPr>
        <p:blipFill>
          <a:blip r:embed="rId1"/>
          <a:stretch/>
        </p:blipFill>
        <p:spPr>
          <a:xfrm>
            <a:off x="444600" y="1359000"/>
            <a:ext cx="8570880" cy="15555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369720" y="2945880"/>
            <a:ext cx="8823600" cy="3816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99000"/>
          </a:bodyPr>
          <a:p>
            <a:pPr lvl="1" marL="917640" indent="-452520">
              <a:spcBef>
                <a:spcPts val="499"/>
              </a:spcBef>
              <a:buClr>
                <a:srgbClr val="ffffff"/>
              </a:buClr>
              <a:buSzPct val="95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Reuniones en Aeropuertos Internacionale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ére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Encuesta de satisfacción:  Sistema de Gestión de calidad ISO 9001:2008 –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uditoria OACI -  5-13 de setiembre/16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sistencia de victimas de accidentes de Aviación y a sus familiares  - Anexo 12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grama FAL del Aeropuerto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917640" indent="-452520">
              <a:spcBef>
                <a:spcPts val="451"/>
              </a:spcBef>
              <a:buClr>
                <a:srgbClr val="ffffff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3 Imagen" descr="bandera.png"/>
          <p:cNvPicPr/>
          <p:nvPr/>
        </p:nvPicPr>
        <p:blipFill>
          <a:blip r:embed="rId2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8" name="5 Imagen" descr="logo_resto.jpg"/>
          <p:cNvPicPr/>
          <p:nvPr/>
        </p:nvPicPr>
        <p:blipFill>
          <a:blip r:embed="rId3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http://www.dinac.gov.py/v2/media/k2/items/cache/71601b6fd7fc74a9f4eea8e6c1b43d35_XL.jpg"/>
          <p:cNvPicPr/>
          <p:nvPr/>
        </p:nvPicPr>
        <p:blipFill>
          <a:blip r:embed="rId4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5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7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9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1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  <p:sp>
        <p:nvSpPr>
          <p:cNvPr id="453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1 Título" descr=""/>
          <p:cNvPicPr/>
          <p:nvPr/>
        </p:nvPicPr>
        <p:blipFill>
          <a:blip r:embed="rId1"/>
          <a:stretch/>
        </p:blipFill>
        <p:spPr>
          <a:xfrm>
            <a:off x="-189000" y="6046920"/>
            <a:ext cx="6450120" cy="1274760"/>
          </a:xfrm>
          <a:prstGeom prst="rect">
            <a:avLst/>
          </a:prstGeom>
          <a:ln w="0">
            <a:noFill/>
          </a:ln>
        </p:spPr>
      </p:pic>
      <p:pic>
        <p:nvPicPr>
          <p:cNvPr id="455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512640" y="5608800"/>
            <a:ext cx="8575920" cy="15541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F:\foto  aerea Drone\P1050572.JPG"/>
          <p:cNvPicPr/>
          <p:nvPr/>
        </p:nvPicPr>
        <p:blipFill>
          <a:blip r:embed="rId2"/>
          <a:stretch/>
        </p:blipFill>
        <p:spPr>
          <a:xfrm>
            <a:off x="0" y="209520"/>
            <a:ext cx="9524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1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3" name="Picture 3" descr="D:\celular 2015\07-vie-01-cp--700x559.jpeg"/>
          <p:cNvPicPr/>
          <p:nvPr/>
        </p:nvPicPr>
        <p:blipFill>
          <a:blip r:embed="rId2"/>
          <a:stretch/>
        </p:blipFill>
        <p:spPr>
          <a:xfrm>
            <a:off x="1008000" y="714240"/>
            <a:ext cx="8502840" cy="6788160"/>
          </a:xfrm>
          <a:prstGeom prst="rect">
            <a:avLst/>
          </a:prstGeom>
          <a:ln w="0">
            <a:noFill/>
          </a:ln>
        </p:spPr>
      </p:pic>
      <p:sp>
        <p:nvSpPr>
          <p:cNvPr id="324" name="1 Título"/>
          <p:cNvSpPr/>
          <p:nvPr/>
        </p:nvSpPr>
        <p:spPr>
          <a:xfrm>
            <a:off x="1041480" y="6396120"/>
            <a:ext cx="85010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sde diciembre, después de 21 años, Paraguay tiene vuelos directos a Europa, con 2 frecuencias semanales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7" descr="C:\Users\vvelazquez\AppData\Local\Microsoft\Windows\Temporary Internet Files\Content.IE5\CDT6OTXG\el-primer-vuelo-de-air-europa-entre-espana-y-paraguay-fue-recibido-esta-manana-_860_573_1314386.jpeg"/>
          <p:cNvPicPr/>
          <p:nvPr/>
        </p:nvPicPr>
        <p:blipFill>
          <a:blip r:embed="rId1"/>
          <a:stretch/>
        </p:blipFill>
        <p:spPr>
          <a:xfrm>
            <a:off x="990720" y="985680"/>
            <a:ext cx="8369280" cy="5948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2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 – AIR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17" descr="C:\Users\VVELAZ~1\AppData\Local\Temp\Rar$DI00.461\Resolucion 1362.jpg"/>
          <p:cNvPicPr/>
          <p:nvPr/>
        </p:nvPicPr>
        <p:blipFill>
          <a:blip r:embed="rId3"/>
          <a:stretch/>
        </p:blipFill>
        <p:spPr>
          <a:xfrm>
            <a:off x="990720" y="5816520"/>
            <a:ext cx="45799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4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ONECTIVIDAD A CIUDAD DEL ES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Picture 3" descr="D:\celular 2015\IMG-20150824-WA0088.jpg"/>
          <p:cNvPicPr/>
          <p:nvPr/>
        </p:nvPicPr>
        <p:blipFill>
          <a:blip r:embed="rId2"/>
          <a:stretch/>
        </p:blipFill>
        <p:spPr>
          <a:xfrm>
            <a:off x="1041480" y="1987560"/>
            <a:ext cx="8205840" cy="3801960"/>
          </a:xfrm>
          <a:prstGeom prst="rect">
            <a:avLst/>
          </a:prstGeom>
          <a:ln w="0">
            <a:noFill/>
          </a:ln>
        </p:spPr>
      </p:pic>
      <p:sp>
        <p:nvSpPr>
          <p:cNvPr id="354" name="1 Título"/>
          <p:cNvSpPr/>
          <p:nvPr/>
        </p:nvSpPr>
        <p:spPr>
          <a:xfrm>
            <a:off x="1041480" y="5792760"/>
            <a:ext cx="8205840" cy="8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Desde setiembre, Amaszonas Paraguay, realiza 2 vuelos diarios a Ciudad del Este, mejorando la conectividad aérea en nuestro país. Los pasajeros se benefician en el ahorro del tiempo de viaje, seguridad y costos competitivos.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7" descr="C:\Users\vvelazquez\AppData\Local\Microsoft\Windows\Temporary Internet Files\Content.IE5\CDT6OTXG\Scan_Pic0001.jpg"/>
          <p:cNvPicPr/>
          <p:nvPr/>
        </p:nvPicPr>
        <p:blipFill>
          <a:blip r:embed="rId1"/>
          <a:stretch/>
        </p:blipFill>
        <p:spPr>
          <a:xfrm rot="21063600">
            <a:off x="1146240" y="4511520"/>
            <a:ext cx="4084560" cy="1852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5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Inicio de vuel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Picture 2" descr="https://s3-sa-east-1.amazonaws.com/assets.abc.com.py/2016/01/07/una-de-las-aeronaves-de-sol-del-paraguay-_867_573_1321926.jpg"/>
          <p:cNvPicPr/>
          <p:nvPr/>
        </p:nvPicPr>
        <p:blipFill>
          <a:blip r:embed="rId3"/>
          <a:stretch/>
        </p:blipFill>
        <p:spPr>
          <a:xfrm>
            <a:off x="2270160" y="920880"/>
            <a:ext cx="4456080" cy="3139920"/>
          </a:xfrm>
          <a:prstGeom prst="rect">
            <a:avLst/>
          </a:prstGeom>
          <a:ln w="0">
            <a:noFill/>
          </a:ln>
        </p:spPr>
      </p:pic>
      <p:sp>
        <p:nvSpPr>
          <p:cNvPr id="370" name="1 CuadroTexto"/>
          <p:cNvSpPr/>
          <p:nvPr/>
        </p:nvSpPr>
        <p:spPr>
          <a:xfrm>
            <a:off x="1041480" y="6689880"/>
            <a:ext cx="809604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Partiendo desde el Aeropuerto Silvio Pettirossi,  a partir del 13 de enero con una capacidad para 12 pasajeros, más dos pilotos con destino a la ciudad de Encarnación y desde febrero a Pedro Juan Caballero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4" descr="C:\Users\vvelazquez\AppData\Local\Microsoft\Windows\Temporary Internet Files\Content.IE5\6ROQAQMJ\RESOLUCION Nº 15-2016.jpg"/>
          <p:cNvPicPr/>
          <p:nvPr/>
        </p:nvPicPr>
        <p:blipFill>
          <a:blip r:embed="rId4"/>
          <a:stretch/>
        </p:blipFill>
        <p:spPr>
          <a:xfrm rot="21043800">
            <a:off x="5498640" y="4211640"/>
            <a:ext cx="3903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73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vuelo inaugur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1 CuadroTexto"/>
          <p:cNvSpPr/>
          <p:nvPr/>
        </p:nvSpPr>
        <p:spPr>
          <a:xfrm>
            <a:off x="1190520" y="7037280"/>
            <a:ext cx="80964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Vuelo inaugural Asunción – Encarnación – Asunción – realizado el 12 de enero de 2016,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6" name="Picture 2" descr="C:\Users\vvelazquez\AppData\Local\Microsoft\Windows\Temporary Internet Files\Content.IE5\PWUB810O\el-brindis-de-rigor_863_573_1323629.jpeg"/>
          <p:cNvPicPr/>
          <p:nvPr/>
        </p:nvPicPr>
        <p:blipFill>
          <a:blip r:embed="rId2"/>
          <a:stretch/>
        </p:blipFill>
        <p:spPr>
          <a:xfrm>
            <a:off x="1636560" y="952560"/>
            <a:ext cx="4235760" cy="29988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aga clic en Opciones"/>
          <p:cNvPicPr/>
          <p:nvPr/>
        </p:nvPicPr>
        <p:blipFill>
          <a:blip r:embed="rId3"/>
          <a:stretch/>
        </p:blipFill>
        <p:spPr>
          <a:xfrm>
            <a:off x="4762440" y="3968640"/>
            <a:ext cx="424188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89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19 CuadroTexto"/>
          <p:cNvSpPr/>
          <p:nvPr/>
        </p:nvSpPr>
        <p:spPr>
          <a:xfrm>
            <a:off x="1243080" y="5465880"/>
            <a:ext cx="82818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ño 2016 – AISP 2 reun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ealización del 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2" name="Picture 20" descr="C:\Users\Usuario\AppData\Local\Microsoft\Windows\Temporary Internet Files\Content.IE5\FT3POMAW\FB_IMG_1464554241249.jpg"/>
          <p:cNvPicPr/>
          <p:nvPr/>
        </p:nvPicPr>
        <p:blipFill>
          <a:blip r:embed="rId2"/>
          <a:stretch/>
        </p:blipFill>
        <p:spPr>
          <a:xfrm>
            <a:off x="4079880" y="2657520"/>
            <a:ext cx="5445000" cy="3063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9" descr="C:\Users\Usuario\AppData\Local\Microsoft\Windows\Temporary Internet Files\Content.IE5\48GUUSPK\FB_IMG_1464554253751.jpg"/>
          <p:cNvPicPr/>
          <p:nvPr/>
        </p:nvPicPr>
        <p:blipFill>
          <a:blip r:embed="rId3"/>
          <a:stretch/>
        </p:blipFill>
        <p:spPr>
          <a:xfrm>
            <a:off x="946080" y="857160"/>
            <a:ext cx="4437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405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19 CuadroTexto"/>
          <p:cNvSpPr/>
          <p:nvPr/>
        </p:nvSpPr>
        <p:spPr>
          <a:xfrm>
            <a:off x="1017720" y="5249880"/>
            <a:ext cx="828180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uditoria OACI – Fecha  5-13 de setiembre/16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grama de Asistencia de victimas de accidentes de Aviación y a sus familia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del Programa FAL del Aeropuerto AIS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8" name="Picture 18" descr="C:\Users\Usuario\AppData\Local\Microsoft\Windows\Temporary Internet Files\Content.IE5\NV7QA57M\FB_IMG_1464554268984.jpg"/>
          <p:cNvPicPr/>
          <p:nvPr/>
        </p:nvPicPr>
        <p:blipFill>
          <a:blip r:embed="rId2"/>
          <a:stretch/>
        </p:blipFill>
        <p:spPr>
          <a:xfrm>
            <a:off x="1090440" y="1001880"/>
            <a:ext cx="794412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0:20Z</dcterms:created>
  <dc:creator>Margaret Kennedy</dc:creator>
  <dc:description/>
  <dc:language>en-US</dc:language>
  <cp:lastModifiedBy>Victor Velazquez</cp:lastModifiedBy>
  <cp:lastPrinted>2014-08-04T16:47:21Z</cp:lastPrinted>
  <dcterms:modified xsi:type="dcterms:W3CDTF">2016-07-26T11:19:28Z</dcterms:modified>
  <cp:revision>787</cp:revision>
  <dc:subject/>
  <dc:title>SNRE Proyecto SPR</dc:title>
</cp:coreProperties>
</file>