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32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525000" cy="7621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1DC-3FD4-4965-AFA8-2CC10A1F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7AEF-F66E-4D8D-A6B4-6115AD23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547-DD34-42EE-93C3-04CE477C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2F8-6523-4A5B-9E72-875B19B8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162D-6598-4F05-98E5-41C22CD3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360B-F86F-4DDC-B70D-9EB2CC40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24CC-2B41-4210-B99F-C7BCA4C2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C690-880B-4971-9747-24F13F87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C959-A5C1-479A-8AAF-9CD2B6D0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EFA5-5896-4964-8F4D-D63B5325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4CCC-0FE5-41D8-8926-93AE7916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CE4-8311-4E8E-BB10-0017453A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2125-4EA8-4B30-904D-9424C8C4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0084-6C36-48F0-9D3C-7F74B31D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08C9-0319-4BB0-AC3D-0691DD81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F6DF-DCE5-4ABA-B331-16D44096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92FF-4E76-45D6-9A91-81E52508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E1084-5A0C-499E-A082-F06213EA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7288B-E3D8-47A7-BF3B-814954EA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0909E-4F33-44C3-BCAD-68641A12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E6941-25D9-42E2-B7C5-55270604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B7382-D66B-47B9-AA85-06F27DF3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5DDE-4218-4C45-81F3-CAEF01E9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080D3-C617-40FE-8889-BEBF83E3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8D641-4486-4A33-9457-B5D1D5B0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603BE-0517-4276-8D7F-975238F3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18E81-DE12-4BB1-926B-7BAE4B70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BD0B6-0841-4786-9FFD-71F55189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1BD65-9048-4056-B872-38222732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DCFC8-658F-41D6-B33E-429A4B4B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7AECA-65AD-4F26-AA64-41E56688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3E73C-5234-4B2D-BC9F-EDE16D68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24EE6-DB60-4598-8DC3-87B22BD7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7D0E-BE6E-4A7C-A673-51E582FD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CC263-578C-408F-AEF0-C367F70E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23712-56B0-4808-9CB2-42B29D49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C226B-B41D-4DEF-A4A8-A2B48B43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F8B7B-D2FD-46E6-BB84-54EFA0B4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15CD4-EE89-4585-A4D8-A3A32217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8929B-2F81-446A-8DFF-7BBAE4FB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3B14D-747A-4679-AC87-9BE6658C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33765-66C4-4354-AB8C-A084BCC6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65663-2C99-4D9E-8165-DAEA5BB0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ECEB2-5419-4D47-8075-34780D63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04ED-70AF-4811-BCCB-56FC05F6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77008-3D57-4A21-9282-3ABF60D9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1B4ED-2787-48F9-A1FE-266B183A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83929-F16E-4C9E-89FE-53F6F003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F44C6-9E84-4496-AA58-27FFC14C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94BDC-C6E2-4B67-94F4-7D776885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3F666-FA9A-427F-BB48-430CC73A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CBD3E-89DA-4401-95AC-68C7033F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2F9FA-C2E8-41A5-B086-514ED4BA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5706E-A87E-4B19-ADC1-0D271758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B3265-4166-47C8-98C5-FA015637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CFF-90BB-42D0-AB3E-01293F5D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8B3E1-C742-495C-BC52-78132C96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BD610-A545-4806-8DFB-1DF63BA5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BE8C9-08EE-4BAC-AF9B-39C7C6B6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13A55-3F12-4D6F-B59C-F95CF419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EB910-810F-4B5D-9741-13391456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D727F-5CED-430F-BDB1-8A96E7E3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26E34-7F51-4B99-9D6C-5BD48767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3CB2B-AFFA-4F7D-8D04-C7A7449B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E947F-9656-4DF7-A8CC-34946D39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AF64B-B0E6-44CC-A395-44DF4BD4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3E8-60C5-402E-95E6-C93F32B9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24AFE-B31E-4D03-AA7E-65E68EBE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CD0CD-C9D1-41FF-B77E-5F3D90B0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D4567-6C69-42EF-B857-1F5DE394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E82DA-84C7-4FD9-984A-99DE9F58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1781B-76D3-4C75-97CD-D26D2577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2C7DE-2842-4AA5-ADCD-E2F6F6A3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85C44-94FA-4CA9-BFDC-B464FB98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BDD36-737E-42E8-B317-D5DE58A2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F3F3D-027F-4D99-9F06-7D66874B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2DE40-B4B0-4281-90E1-C8D34482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FD8E-49D9-44BA-B9B8-96728B0C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F275B-B302-43AB-B297-35C926E8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3E168-BFCF-442B-AECB-EE6BB8D5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5AF0F-AB6A-4336-AA29-918D94BF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CBB73-070F-4FB1-A34E-E0A8D4A2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BCE2E-AE38-4265-B052-FC83AF13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F06-AD20-427C-BCAC-39EA5442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991040" y="720252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5920" y="7202520"/>
            <a:ext cx="44370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B96A-C418-4159-BC5B-C9934E54272D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802280" y="588276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428480" y="6679800"/>
            <a:ext cx="6032520" cy="405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28480" y="6276600"/>
            <a:ext cx="6032520" cy="406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740440" y="6392880"/>
            <a:ext cx="523800" cy="404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E002-D1D5-4B07-A686-1AAD6186B586}" type="slidenum"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91040" y="720108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75920" y="7202520"/>
            <a:ext cx="44370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556C-0033-4BAF-98B8-D1B205CD72F2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540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802280" y="38772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738480" y="1080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12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246800" y="7196040"/>
            <a:ext cx="2222640" cy="339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728800" y="7202520"/>
            <a:ext cx="4438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802360" y="900000"/>
            <a:ext cx="523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7871-41C5-42FD-A6D3-F549F8B79DD4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990680" y="7202520"/>
            <a:ext cx="22194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76280" y="7202520"/>
            <a:ext cx="44388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905600" y="7203600"/>
            <a:ext cx="524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B2B3-5683-4055-9746-34F6CA606909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540480" y="7284600"/>
            <a:ext cx="22226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82240" y="7284600"/>
            <a:ext cx="535788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60960" y="7284600"/>
            <a:ext cx="52380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96E4-5CEF-465C-BB68-91333EB09C98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362280" y="7284600"/>
            <a:ext cx="2189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219320" y="7286760"/>
            <a:ext cx="515448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9360" y="7284600"/>
            <a:ext cx="3812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0D3D-A5AB-4DF4-A5F9-48E172D2F48B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76280" y="1947960"/>
            <a:ext cx="8572320" cy="48592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Dirección Nacional de Aeronáutica Civil – DINAC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INFORME DE COMITÉ FAL AEROPUERTO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LIC. VICTOR VELAZQUEZ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26-07-201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2" name="3 Imagen" descr="bandera.png"/>
          <p:cNvPicPr/>
          <p:nvPr/>
        </p:nvPicPr>
        <p:blipFill>
          <a:blip r:embed="rId1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3" name="5 Imagen" descr="logo_resto.jpg"/>
          <p:cNvPicPr/>
          <p:nvPr/>
        </p:nvPicPr>
        <p:blipFill>
          <a:blip r:embed="rId2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http://www.dinac.gov.py/v2/media/k2/items/cache/71601b6fd7fc74a9f4eea8e6c1b43d35_XL.jpg"/>
          <p:cNvPicPr/>
          <p:nvPr/>
        </p:nvPicPr>
        <p:blipFill>
          <a:blip r:embed="rId3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815320" cy="1749600"/>
          </a:xfrm>
          <a:prstGeom prst="rect">
            <a:avLst/>
          </a:prstGeom>
          <a:ln w="0">
            <a:noFill/>
          </a:ln>
        </p:spPr>
      </p:pic>
      <p:sp>
        <p:nvSpPr>
          <p:cNvPr id="420" name="1 Título"/>
          <p:cNvSpPr/>
          <p:nvPr/>
        </p:nvSpPr>
        <p:spPr>
          <a:xfrm>
            <a:off x="5119560" y="5238720"/>
            <a:ext cx="401796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1100" spc="-1" strike="noStrike">
                <a:solidFill>
                  <a:srgbClr val="000000"/>
                </a:solidFill>
                <a:latin typeface="Arial"/>
                <a:ea typeface="Arial"/>
              </a:rPr>
              <a:t>SE CONTRATO LOS SERVICIOS DE CONSULTORIA PARA LA CERTIFICACION ISO 9001/2008, DE LOS SERVICIOS AEROPORTUARIOS DEL AISP, EN TOTAL 15 PROCESOS RELACIONADOS A LA ATENCION DE PASAJEROS Y A LA SEGURIDAD OPERACIONAL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5" descr="C:\Users\Usuario\Documents\ESCAN ISO.jpg"/>
          <p:cNvPicPr/>
          <p:nvPr/>
        </p:nvPicPr>
        <p:blipFill>
          <a:blip r:embed="rId2"/>
          <a:stretch/>
        </p:blipFill>
        <p:spPr>
          <a:xfrm rot="21184800">
            <a:off x="604800" y="1793880"/>
            <a:ext cx="4621320" cy="2414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Usuario\AppData\Local\Microsoft\Windows\Temporary Internet Files\Low\Content.IE5\18YWFR88\IMG-20140106-WA0002[1].jpg"/>
          <p:cNvPicPr/>
          <p:nvPr/>
        </p:nvPicPr>
        <p:blipFill>
          <a:blip r:embed="rId3"/>
          <a:stretch/>
        </p:blipFill>
        <p:spPr>
          <a:xfrm>
            <a:off x="619200" y="45957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Users\Usuario\AppData\Local\Microsoft\Windows\Temporary Internet Files\Low\Content.IE5\QUDQGEZE\IMG-20140106-WA0001[1].jpg"/>
          <p:cNvPicPr/>
          <p:nvPr/>
        </p:nvPicPr>
        <p:blipFill>
          <a:blip r:embed="rId4"/>
          <a:stretch/>
        </p:blipFill>
        <p:spPr>
          <a:xfrm>
            <a:off x="5119560" y="1666800"/>
            <a:ext cx="41720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3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12920" y="2770200"/>
            <a:ext cx="5024160" cy="36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Tahoma"/>
              </a:rPr>
              <a:t>PRESENTACIÓN DEL RESULTADO DE ENCUESTAS REALIZADAS EN EL AISP 201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000" spc="-1" strike="noStrike">
                <a:solidFill>
                  <a:srgbClr val="000000"/>
                </a:solidFill>
                <a:latin typeface="Tahoma"/>
              </a:rPr>
              <a:t>LICITACIÓN POR CONCURSO DE OFERTAS N° 29/201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ormulario de Encuesta utilizado FL-SGC-10 V00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Periodo: 11 de Enero y el 28 de Enero del 2016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ueron encuestadas 510 personas y respondienron 315 persona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Encuestas realizadas de manera personaliza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Las encuestas se realizaron en diferentes Horarios (Madrugada,Mañana, Tarde, Noche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Muestras tomadas en el área  de estacionamiento,  embarque y desembarque, área restringida y pública, pasajeros y acompañante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5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7" name="6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139680" y="6132600"/>
            <a:ext cx="6346800" cy="1116000"/>
          </a:xfrm>
          <a:prstGeom prst="rect">
            <a:avLst/>
          </a:prstGeom>
          <a:ln w="0">
            <a:noFill/>
          </a:ln>
        </p:spPr>
      </p:pic>
      <p:pic>
        <p:nvPicPr>
          <p:cNvPr id="439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Título"/>
          <p:cNvSpPr/>
          <p:nvPr/>
        </p:nvSpPr>
        <p:spPr>
          <a:xfrm>
            <a:off x="262080" y="6130800"/>
            <a:ext cx="6226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7f7f7f"/>
                </a:solidFill>
                <a:latin typeface="Tahoma"/>
              </a:rPr>
              <a:t>CHECK IN COMPAÑÍA AÉRE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1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3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444600" y="1359000"/>
            <a:ext cx="8570880" cy="1555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369720" y="2945880"/>
            <a:ext cx="8823600" cy="3816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9000"/>
          </a:bodyPr>
          <a:p>
            <a:pPr lvl="1" marL="917640" indent="-452520">
              <a:spcBef>
                <a:spcPts val="499"/>
              </a:spcBef>
              <a:buClr>
                <a:srgbClr val="ffffff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Reuniones en Aeropuertos Internacional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ére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ncuesta de satisfacción:  Sistema de Gestión de calidad ISO 9001:2008 –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uditoria OACI -  5-13 de setiembre/16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sistencia de victimas de accidentes de Aviación y a sus familiares  - Anexo 12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grama FAL del Aeropuerto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917640" indent="-452520">
              <a:spcBef>
                <a:spcPts val="451"/>
              </a:spcBef>
              <a:buClr>
                <a:srgbClr val="ffffff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3 Imagen" descr="bandera.png"/>
          <p:cNvPicPr/>
          <p:nvPr/>
        </p:nvPicPr>
        <p:blipFill>
          <a:blip r:embed="rId2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8" name="5 Imagen" descr="logo_resto.jpg"/>
          <p:cNvPicPr/>
          <p:nvPr/>
        </p:nvPicPr>
        <p:blipFill>
          <a:blip r:embed="rId3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www.dinac.gov.py/v2/media/k2/items/cache/71601b6fd7fc74a9f4eea8e6c1b43d35_XL.jpg"/>
          <p:cNvPicPr/>
          <p:nvPr/>
        </p:nvPicPr>
        <p:blipFill>
          <a:blip r:embed="rId4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5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7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9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1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  <p:sp>
        <p:nvSpPr>
          <p:cNvPr id="453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Título" descr=""/>
          <p:cNvPicPr/>
          <p:nvPr/>
        </p:nvPicPr>
        <p:blipFill>
          <a:blip r:embed="rId1"/>
          <a:stretch/>
        </p:blipFill>
        <p:spPr>
          <a:xfrm>
            <a:off x="-189000" y="6046920"/>
            <a:ext cx="6450120" cy="1274760"/>
          </a:xfrm>
          <a:prstGeom prst="rect">
            <a:avLst/>
          </a:prstGeom>
          <a:ln w="0">
            <a:noFill/>
          </a:ln>
        </p:spPr>
      </p:pic>
      <p:pic>
        <p:nvPicPr>
          <p:cNvPr id="455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512640" y="5608800"/>
            <a:ext cx="8575920" cy="1554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F:\foto  aerea Drone\P1050572.JPG"/>
          <p:cNvPicPr/>
          <p:nvPr/>
        </p:nvPicPr>
        <p:blipFill>
          <a:blip r:embed="rId2"/>
          <a:stretch/>
        </p:blipFill>
        <p:spPr>
          <a:xfrm>
            <a:off x="0" y="209520"/>
            <a:ext cx="9524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1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3" name="Picture 3" descr="D:\celular 2015\07-vie-01-cp--700x559.jpeg"/>
          <p:cNvPicPr/>
          <p:nvPr/>
        </p:nvPicPr>
        <p:blipFill>
          <a:blip r:embed="rId2"/>
          <a:stretch/>
        </p:blipFill>
        <p:spPr>
          <a:xfrm>
            <a:off x="1008000" y="714240"/>
            <a:ext cx="8502840" cy="6788160"/>
          </a:xfrm>
          <a:prstGeom prst="rect">
            <a:avLst/>
          </a:prstGeom>
          <a:ln w="0">
            <a:noFill/>
          </a:ln>
        </p:spPr>
      </p:pic>
      <p:sp>
        <p:nvSpPr>
          <p:cNvPr id="324" name="1 Título"/>
          <p:cNvSpPr/>
          <p:nvPr/>
        </p:nvSpPr>
        <p:spPr>
          <a:xfrm>
            <a:off x="1041480" y="6396120"/>
            <a:ext cx="85010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sde diciembre, después de 21 años, Paraguay tiene vuelos directos a Europa, con 2 frecuencias semanales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C:\Users\vvelazquez\AppData\Local\Microsoft\Windows\Temporary Internet Files\Content.IE5\CDT6OTXG\el-primer-vuelo-de-air-europa-entre-espana-y-paraguay-fue-recibido-esta-manana-_860_573_1314386.jpeg"/>
          <p:cNvPicPr/>
          <p:nvPr/>
        </p:nvPicPr>
        <p:blipFill>
          <a:blip r:embed="rId1"/>
          <a:stretch/>
        </p:blipFill>
        <p:spPr>
          <a:xfrm>
            <a:off x="990720" y="985680"/>
            <a:ext cx="8369280" cy="5948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2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 – AIR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17" descr="C:\Users\VVELAZ~1\AppData\Local\Temp\Rar$DI00.461\Resolucion 1362.jpg"/>
          <p:cNvPicPr/>
          <p:nvPr/>
        </p:nvPicPr>
        <p:blipFill>
          <a:blip r:embed="rId3"/>
          <a:stretch/>
        </p:blipFill>
        <p:spPr>
          <a:xfrm>
            <a:off x="990720" y="5816520"/>
            <a:ext cx="45799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4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ONECTIVIDAD A CIUDAD DEL ES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3" descr="D:\celular 2015\IMG-20150824-WA0088.jpg"/>
          <p:cNvPicPr/>
          <p:nvPr/>
        </p:nvPicPr>
        <p:blipFill>
          <a:blip r:embed="rId2"/>
          <a:stretch/>
        </p:blipFill>
        <p:spPr>
          <a:xfrm>
            <a:off x="1041480" y="1987560"/>
            <a:ext cx="8205840" cy="3801960"/>
          </a:xfrm>
          <a:prstGeom prst="rect">
            <a:avLst/>
          </a:prstGeom>
          <a:ln w="0">
            <a:noFill/>
          </a:ln>
        </p:spPr>
      </p:pic>
      <p:sp>
        <p:nvSpPr>
          <p:cNvPr id="354" name="1 Título"/>
          <p:cNvSpPr/>
          <p:nvPr/>
        </p:nvSpPr>
        <p:spPr>
          <a:xfrm>
            <a:off x="1041480" y="5792760"/>
            <a:ext cx="820584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Desde setiembre, Amaszonas Paraguay, realiza 2 vuelos diarios a Ciudad del Este, mejorando la conectividad aérea en nuestro país. Los pasajeros se benefician en el ahorro del tiempo de viaje, seguridad y costos competitivos.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7" descr="C:\Users\vvelazquez\AppData\Local\Microsoft\Windows\Temporary Internet Files\Content.IE5\CDT6OTXG\Scan_Pic0001.jpg"/>
          <p:cNvPicPr/>
          <p:nvPr/>
        </p:nvPicPr>
        <p:blipFill>
          <a:blip r:embed="rId1"/>
          <a:stretch/>
        </p:blipFill>
        <p:spPr>
          <a:xfrm rot="21063600">
            <a:off x="1146240" y="4511520"/>
            <a:ext cx="4084560" cy="185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5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Inicio de vue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2" descr="https://s3-sa-east-1.amazonaws.com/assets.abc.com.py/2016/01/07/una-de-las-aeronaves-de-sol-del-paraguay-_867_573_1321926.jpg"/>
          <p:cNvPicPr/>
          <p:nvPr/>
        </p:nvPicPr>
        <p:blipFill>
          <a:blip r:embed="rId3"/>
          <a:stretch/>
        </p:blipFill>
        <p:spPr>
          <a:xfrm>
            <a:off x="2270160" y="920880"/>
            <a:ext cx="4456080" cy="3139920"/>
          </a:xfrm>
          <a:prstGeom prst="rect">
            <a:avLst/>
          </a:prstGeom>
          <a:ln w="0">
            <a:noFill/>
          </a:ln>
        </p:spPr>
      </p:pic>
      <p:sp>
        <p:nvSpPr>
          <p:cNvPr id="370" name="1 CuadroTexto"/>
          <p:cNvSpPr/>
          <p:nvPr/>
        </p:nvSpPr>
        <p:spPr>
          <a:xfrm>
            <a:off x="1041480" y="6689880"/>
            <a:ext cx="80960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Partiendo desde el Aeropuerto Silvio Pettirossi,  a partir del 13 de enero con una capacidad para 12 pasajeros, más dos pilotos con destino a la ciudad de Encarnación y desde febrero a Pedro Juan Caballero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4" descr="C:\Users\vvelazquez\AppData\Local\Microsoft\Windows\Temporary Internet Files\Content.IE5\6ROQAQMJ\RESOLUCION Nº 15-2016.jpg"/>
          <p:cNvPicPr/>
          <p:nvPr/>
        </p:nvPicPr>
        <p:blipFill>
          <a:blip r:embed="rId4"/>
          <a:stretch/>
        </p:blipFill>
        <p:spPr>
          <a:xfrm rot="21043800">
            <a:off x="5498640" y="4211640"/>
            <a:ext cx="3903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73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vuelo inaug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1 CuadroTexto"/>
          <p:cNvSpPr/>
          <p:nvPr/>
        </p:nvSpPr>
        <p:spPr>
          <a:xfrm>
            <a:off x="1190520" y="7037280"/>
            <a:ext cx="8096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Vuelo inaugural Asunción – Encarnación – Asunción – realizado el 12 de enero de 2016,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C:\Users\vvelazquez\AppData\Local\Microsoft\Windows\Temporary Internet Files\Content.IE5\PWUB810O\el-brindis-de-rigor_863_573_1323629.jpeg"/>
          <p:cNvPicPr/>
          <p:nvPr/>
        </p:nvPicPr>
        <p:blipFill>
          <a:blip r:embed="rId2"/>
          <a:stretch/>
        </p:blipFill>
        <p:spPr>
          <a:xfrm>
            <a:off x="1636560" y="952560"/>
            <a:ext cx="4235760" cy="2998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aga clic en Opciones"/>
          <p:cNvPicPr/>
          <p:nvPr/>
        </p:nvPicPr>
        <p:blipFill>
          <a:blip r:embed="rId3"/>
          <a:stretch/>
        </p:blipFill>
        <p:spPr>
          <a:xfrm>
            <a:off x="4762440" y="3968640"/>
            <a:ext cx="42418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89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19 CuadroTexto"/>
          <p:cNvSpPr/>
          <p:nvPr/>
        </p:nvSpPr>
        <p:spPr>
          <a:xfrm>
            <a:off x="1243080" y="5465880"/>
            <a:ext cx="82818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ño 2016 – AISP 2 reun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alización del 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20" descr="C:\Users\Usuario\AppData\Local\Microsoft\Windows\Temporary Internet Files\Content.IE5\FT3POMAW\FB_IMG_1464554241249.jpg"/>
          <p:cNvPicPr/>
          <p:nvPr/>
        </p:nvPicPr>
        <p:blipFill>
          <a:blip r:embed="rId2"/>
          <a:stretch/>
        </p:blipFill>
        <p:spPr>
          <a:xfrm>
            <a:off x="4079880" y="2657520"/>
            <a:ext cx="5445000" cy="3063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C:\Users\Usuario\AppData\Local\Microsoft\Windows\Temporary Internet Files\Content.IE5\48GUUSPK\FB_IMG_1464554253751.jpg"/>
          <p:cNvPicPr/>
          <p:nvPr/>
        </p:nvPicPr>
        <p:blipFill>
          <a:blip r:embed="rId3"/>
          <a:stretch/>
        </p:blipFill>
        <p:spPr>
          <a:xfrm>
            <a:off x="946080" y="857160"/>
            <a:ext cx="4437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405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19 CuadroTexto"/>
          <p:cNvSpPr/>
          <p:nvPr/>
        </p:nvSpPr>
        <p:spPr>
          <a:xfrm>
            <a:off x="1017720" y="5249880"/>
            <a:ext cx="82818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uditoria OACI – Fecha  5-13 de setiembre/16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grama de Asistencia de victimas de accidentes de Aviación y a sus familia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del Programa FAL del Aeropuerto AIS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8" name="Picture 18" descr="C:\Users\Usuario\AppData\Local\Microsoft\Windows\Temporary Internet Files\Content.IE5\NV7QA57M\FB_IMG_1464554268984.jpg"/>
          <p:cNvPicPr/>
          <p:nvPr/>
        </p:nvPicPr>
        <p:blipFill>
          <a:blip r:embed="rId2"/>
          <a:stretch/>
        </p:blipFill>
        <p:spPr>
          <a:xfrm>
            <a:off x="1090440" y="1001880"/>
            <a:ext cx="79441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0:20Z</dcterms:created>
  <dc:creator>Margaret Kennedy</dc:creator>
  <dc:description/>
  <dc:language>en-US</dc:language>
  <cp:lastModifiedBy>Victor Velazquez</cp:lastModifiedBy>
  <cp:lastPrinted>2014-08-04T16:47:21Z</cp:lastPrinted>
  <dcterms:modified xsi:type="dcterms:W3CDTF">2016-07-26T11:19:28Z</dcterms:modified>
  <cp:revision>787</cp:revision>
  <dc:subject/>
  <dc:title>SNRE Proyecto SPR</dc:title>
</cp:coreProperties>
</file>