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19.jpeg" ContentType="image/jpeg"/>
  <Override PartName="/ppt/media/image22.jpeg" ContentType="image/jpeg"/>
  <Override PartName="/ppt/media/image39.png" ContentType="image/png"/>
  <Override PartName="/ppt/media/image20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28.png" ContentType="image/png"/>
  <Override PartName="/ppt/media/image7.jpeg" ContentType="image/jpeg"/>
  <Override PartName="/ppt/media/image32.png" ContentType="image/png"/>
  <Override PartName="/ppt/media/image33.png" ContentType="image/png"/>
  <Override PartName="/ppt/media/image14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18.png" ContentType="image/png"/>
  <Override PartName="/ppt/media/image6.jpeg" ContentType="image/jpeg"/>
  <Override PartName="/ppt/media/image37.png" ContentType="image/png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525000" cy="7621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E991-AE1B-434B-BBE6-0B8860FC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7E4D-CA85-4F36-9F70-89CF377F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A3B8-820B-4165-9A39-0BDB0819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22E6-5492-47A4-9C37-1563A1462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65D2-C8EA-4063-94AD-A112C3DD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0185-4075-44B7-85A5-AB6ED73A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0A84-414E-4E13-A994-68541A38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DBCC-1A04-4FEE-8548-F3BCC688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81B9-BDB2-4FB8-B57A-2DC27466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3144-FD73-479E-A20E-81F59AE2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84CE-8E45-4587-86F8-4C661FCA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AE00-1B5D-47AD-93C8-07F61115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5327-ED08-4FA2-8998-82CE2111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A157-E26F-4647-AE44-9B00E67E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4C22-ACEC-4AAC-AEA8-63B84CEA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66D0-3737-4D04-B01C-1DD82DFC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4546-A9F4-4C84-98D6-ACA5EB29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EF45F-C39B-4169-BCB2-E11D137E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E414D-E863-499A-A1E1-487F155D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04FF2-E479-41B4-A9F4-8BC0B3BB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4E3BC-AED6-4684-BD88-6FD07E67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3356A-651A-41E4-963C-811FE17A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3F84-29FC-41C0-B886-BD1CE727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2FC93-9A50-4DFB-AA87-AF11EC30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6D24D-73BC-4185-B93F-548865DB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C68E1-412F-4673-8DE5-E318CB59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30705-016B-4E54-A362-50F780F9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934A5-CDFD-4CFA-A62B-3723F726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7943D-D12E-4ADA-B5DC-52AAF48E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9CCB8-5F0B-4D08-82A0-3E1B3E71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B4607-89F2-4005-B247-30E3612DA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E3CF1-5371-4684-B9DA-CAD41A4D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B1764-A190-4B91-A9AF-D995BC80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2E19-9D44-434A-AC5F-BAEF21C8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3823B-D081-47C1-BBD9-610848E6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081B0-5E48-4A8C-8FDC-3562AEAA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071D2-A3D0-4BB7-B501-DE5C402B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9BF63-90EC-44B0-B29D-1305CCA8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799FE-4BDC-4C45-B214-548E8421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50425-FE22-40C7-9109-C1C74B5F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C676A-0944-4E9E-A66A-A3D19DF6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5D7D9-C347-45CC-8BF1-5BB84397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B5A6F-6F45-4BA9-9A78-C2895E9D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7CA7C-61C9-41D8-9333-EA5D91E6A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0A16-2EE7-4896-B515-AFDA24B6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D9397-BF33-4307-9B1D-666BF44C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30DF7-600B-443F-88FB-776A2246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DC12C-6A0B-402D-8EF8-D65E10F7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621AE-A275-411E-96AF-4DD5BDAA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FFB81-5516-4C33-AE8B-655B6368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89D3E-7691-44BA-B91C-C8D02961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237CA-8647-458D-97E4-693D7AF4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DFCE4-6E3B-43B6-A599-82A915C0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29C60-1529-4923-891D-E6285E35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7B8FD-A305-4E27-AC7B-F28AB7B3F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6531-C073-453D-A836-DD1821A6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32FAA-ACEF-4CC2-A743-B63F4B48F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1033B-B446-4335-B86D-25838B2D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0E846-27F5-4F65-B49B-9076A298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9BE25-E218-4A98-BCE9-C15F893C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B77B2-4A14-41C5-89FA-42AFC72D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C8AFC-70A2-49CE-A5BB-3A8905A1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F1079-B677-455A-9E3F-4940FC90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46AC4-2423-4DB5-BCDB-63801B17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44A4F-877F-4853-9FBF-542754D1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028D8-B7B1-4FD2-AFFF-5EEADCAE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91A7-5833-40B8-8F05-F8CF75DC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BE452-504E-4FDE-B089-4CA68DBB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0C717-8851-4164-A4EE-CF7B65E0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20170-146E-4F4A-B38F-FAC01D22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74153-6429-4EAE-84B4-3ECFC2948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EFCBE-1B71-4E20-83AB-6579E036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DF030-9468-4A3A-AB03-F910D092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0942C-914C-4E9B-A225-F50BF382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4BFC4-19B9-4211-9661-D56850D0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2961E-2124-430D-B66F-BFAA4B18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04D36-91BF-4F7E-9585-B91072E7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2ACD-E7E1-453E-AB5B-860D3A88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75F2F-0BBE-467E-81EC-61348154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34633-51B2-477E-9445-697DBE89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47242-F649-48DC-99A4-FF448E81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E025C-5B91-4C2D-9F85-FCABD464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27743-14CC-4993-A505-E110E226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F739-D205-4D7F-AB23-A4AA454B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991040" y="7202520"/>
            <a:ext cx="222264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75920" y="7202520"/>
            <a:ext cx="44370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05600" y="7202520"/>
            <a:ext cx="52416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92EB-7198-4763-BA35-68F03C006B91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802280" y="5882760"/>
            <a:ext cx="2103480" cy="1347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428480" y="6679800"/>
            <a:ext cx="6032520" cy="4050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428480" y="6276600"/>
            <a:ext cx="6032520" cy="406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740440" y="6392880"/>
            <a:ext cx="523800" cy="4046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260C-E6E6-4026-AAA6-2F94AB31E4BB}" type="slidenum"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991040" y="7201080"/>
            <a:ext cx="222264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75920" y="7202520"/>
            <a:ext cx="44370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905600" y="7202520"/>
            <a:ext cx="52416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5EDB-CFB9-4B57-B58F-10D472E95683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540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802280" y="387720"/>
            <a:ext cx="2103480" cy="1347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12 Conector recto"/>
          <p:cNvSpPr/>
          <p:nvPr/>
        </p:nvSpPr>
        <p:spPr>
          <a:xfrm flipH="1" flipV="1">
            <a:off x="6738480" y="1080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14 Conector recto"/>
          <p:cNvSpPr/>
          <p:nvPr/>
        </p:nvSpPr>
        <p:spPr>
          <a:xfrm flipV="1">
            <a:off x="0" y="612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7246800" y="7196040"/>
            <a:ext cx="2222640" cy="3398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728800" y="7202520"/>
            <a:ext cx="44388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802360" y="900000"/>
            <a:ext cx="5238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5157-2E94-4311-A371-1DE072EEDB50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990680" y="7202520"/>
            <a:ext cx="22194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76280" y="7202520"/>
            <a:ext cx="44388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905600" y="7203600"/>
            <a:ext cx="52416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BCAA-26F1-44DC-8216-0B5F37BDAA5C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540480" y="7284600"/>
            <a:ext cx="222264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82240" y="7284600"/>
            <a:ext cx="535788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760960" y="7284600"/>
            <a:ext cx="52380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91C5-C074-4C8D-8358-CBF08D152AEB}" type="slidenum"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362280" y="7284600"/>
            <a:ext cx="218916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219320" y="7286760"/>
            <a:ext cx="515448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59360" y="7284600"/>
            <a:ext cx="38124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A15F-AF6A-4EBB-BCCF-32641FB7FF60}" type="slidenum"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76280" y="1947960"/>
            <a:ext cx="8572320" cy="48592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Dirección Nacional de Aeronáutica Civil – DINAC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INFORME DE COMITÉ FAL AEROPUERTO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LIC. VICTOR VELAZQUEZ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26-07-2016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2" name="3 Imagen" descr="bandera.png"/>
          <p:cNvPicPr/>
          <p:nvPr/>
        </p:nvPicPr>
        <p:blipFill>
          <a:blip r:embed="rId1"/>
          <a:stretch/>
        </p:blipFill>
        <p:spPr>
          <a:xfrm>
            <a:off x="3467160" y="380880"/>
            <a:ext cx="2057400" cy="1096920"/>
          </a:xfrm>
          <a:prstGeom prst="rect">
            <a:avLst/>
          </a:prstGeom>
          <a:ln w="0">
            <a:noFill/>
          </a:ln>
        </p:spPr>
      </p:pic>
      <p:pic>
        <p:nvPicPr>
          <p:cNvPr id="303" name="5 Imagen" descr="logo_resto.jpg"/>
          <p:cNvPicPr/>
          <p:nvPr/>
        </p:nvPicPr>
        <p:blipFill>
          <a:blip r:embed="rId2"/>
          <a:stretch/>
        </p:blipFill>
        <p:spPr>
          <a:xfrm>
            <a:off x="658800" y="396720"/>
            <a:ext cx="2040120" cy="1081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http://www.dinac.gov.py/v2/media/k2/items/cache/71601b6fd7fc74a9f4eea8e6c1b43d35_XL.jpg"/>
          <p:cNvPicPr/>
          <p:nvPr/>
        </p:nvPicPr>
        <p:blipFill>
          <a:blip r:embed="rId3"/>
          <a:stretch/>
        </p:blipFill>
        <p:spPr>
          <a:xfrm>
            <a:off x="5842080" y="396720"/>
            <a:ext cx="3047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1 Título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815320" cy="1749600"/>
          </a:xfrm>
          <a:prstGeom prst="rect">
            <a:avLst/>
          </a:prstGeom>
          <a:ln w="0">
            <a:noFill/>
          </a:ln>
        </p:spPr>
      </p:pic>
      <p:sp>
        <p:nvSpPr>
          <p:cNvPr id="420" name="1 Título"/>
          <p:cNvSpPr/>
          <p:nvPr/>
        </p:nvSpPr>
        <p:spPr>
          <a:xfrm>
            <a:off x="5119560" y="5238720"/>
            <a:ext cx="4017960" cy="19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s-PY" sz="1100" spc="-1" strike="noStrike">
                <a:solidFill>
                  <a:srgbClr val="000000"/>
                </a:solidFill>
                <a:latin typeface="Arial"/>
                <a:ea typeface="Arial"/>
              </a:rPr>
              <a:t>SE CONTRATO LOS SERVICIOS DE CONSULTORIA PARA LA CERTIFICACION ISO 9001/2008, DE LOS SERVICIOS AEROPORTUARIOS DEL AISP, EN TOTAL 15 PROCESOS RELACIONADOS A LA ATENCION DE PASAJEROS Y A LA SEGURIDAD OPERACIONAL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s-PY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600"/>
            </a:b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1" name="Picture 5" descr="C:\Users\Usuario\Documents\ESCAN ISO.jpg"/>
          <p:cNvPicPr/>
          <p:nvPr/>
        </p:nvPicPr>
        <p:blipFill>
          <a:blip r:embed="rId2"/>
          <a:stretch/>
        </p:blipFill>
        <p:spPr>
          <a:xfrm rot="21184800">
            <a:off x="604800" y="1793880"/>
            <a:ext cx="4621320" cy="24145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C:\Users\Usuario\AppData\Local\Microsoft\Windows\Temporary Internet Files\Low\Content.IE5\18YWFR88\IMG-20140106-WA0002[1].jpg"/>
          <p:cNvPicPr/>
          <p:nvPr/>
        </p:nvPicPr>
        <p:blipFill>
          <a:blip r:embed="rId3"/>
          <a:stretch/>
        </p:blipFill>
        <p:spPr>
          <a:xfrm>
            <a:off x="619200" y="459576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C:\Users\Usuario\AppData\Local\Microsoft\Windows\Temporary Internet Files\Low\Content.IE5\QUDQGEZE\IMG-20140106-WA0001[1].jpg"/>
          <p:cNvPicPr/>
          <p:nvPr/>
        </p:nvPicPr>
        <p:blipFill>
          <a:blip r:embed="rId4"/>
          <a:stretch/>
        </p:blipFill>
        <p:spPr>
          <a:xfrm>
            <a:off x="5119560" y="1666800"/>
            <a:ext cx="4172040" cy="31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3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12920" y="2770200"/>
            <a:ext cx="5024160" cy="36799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3000" spc="-1" strike="noStrike">
                <a:solidFill>
                  <a:srgbClr val="000000"/>
                </a:solidFill>
                <a:latin typeface="Tahoma"/>
              </a:rPr>
              <a:t>PRESENTACIÓN DEL RESULTADO DE ENCUESTAS REALIZADAS EN EL AISP 2016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3000" spc="-1" strike="noStrike">
                <a:solidFill>
                  <a:srgbClr val="000000"/>
                </a:solidFill>
                <a:latin typeface="Tahoma"/>
              </a:rPr>
              <a:t>LICITACIÓN POR CONCURSO DE OFERTAS N° 29/2015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1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3"/>
          <p:cNvSpPr/>
          <p:nvPr/>
        </p:nvSpPr>
        <p:spPr>
          <a:xfrm>
            <a:off x="336600" y="770040"/>
            <a:ext cx="9001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Formulario de Encuesta utilizado FL-SGC-10 V00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Periodo: 11 de Enero y el 28 de Enero del 2016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Fueron encuestadas 510 personas y respondienron 315 persona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Encuestas realizadas de manera personalizada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Las encuestas se realizaron en diferentes Horarios (Madrugada,Mañana, Tarde, Noche)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2"/>
          <a:stretch/>
        </p:blipFill>
        <p:spPr>
          <a:xfrm>
            <a:off x="212760" y="6364440"/>
            <a:ext cx="609120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1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3"/>
          <p:cNvSpPr/>
          <p:nvPr/>
        </p:nvSpPr>
        <p:spPr>
          <a:xfrm>
            <a:off x="336600" y="770040"/>
            <a:ext cx="9001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Muestras tomadas en el área  de estacionamiento,  embarque y desembarque, área restringida y pública, pasajeros y acompañante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1" name="Rectangle 2" descr=""/>
          <p:cNvPicPr/>
          <p:nvPr/>
        </p:nvPicPr>
        <p:blipFill>
          <a:blip r:embed="rId2"/>
          <a:stretch/>
        </p:blipFill>
        <p:spPr>
          <a:xfrm>
            <a:off x="212760" y="6364440"/>
            <a:ext cx="609120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3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5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7" name="6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1 Título" descr=""/>
          <p:cNvPicPr/>
          <p:nvPr/>
        </p:nvPicPr>
        <p:blipFill>
          <a:blip r:embed="rId1"/>
          <a:stretch/>
        </p:blipFill>
        <p:spPr>
          <a:xfrm>
            <a:off x="139680" y="6132600"/>
            <a:ext cx="6346800" cy="1116000"/>
          </a:xfrm>
          <a:prstGeom prst="rect">
            <a:avLst/>
          </a:prstGeom>
          <a:ln w="0">
            <a:noFill/>
          </a:ln>
        </p:spPr>
      </p:pic>
      <p:pic>
        <p:nvPicPr>
          <p:cNvPr id="439" name="1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1 Título"/>
          <p:cNvSpPr/>
          <p:nvPr/>
        </p:nvSpPr>
        <p:spPr>
          <a:xfrm>
            <a:off x="262080" y="6130800"/>
            <a:ext cx="62262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600" spc="-1" strike="noStrike">
                <a:solidFill>
                  <a:srgbClr val="7f7f7f"/>
                </a:solidFill>
                <a:latin typeface="Tahoma"/>
              </a:rPr>
              <a:t>CHECK IN COMPAÑÍA AÉRE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1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3" name="1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1 Título" descr=""/>
          <p:cNvPicPr/>
          <p:nvPr/>
        </p:nvPicPr>
        <p:blipFill>
          <a:blip r:embed="rId1"/>
          <a:stretch/>
        </p:blipFill>
        <p:spPr>
          <a:xfrm>
            <a:off x="444600" y="1359000"/>
            <a:ext cx="8570880" cy="15555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369720" y="2945880"/>
            <a:ext cx="8823600" cy="3816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 fontScale="99000"/>
          </a:bodyPr>
          <a:p>
            <a:pPr lvl="1" marL="917640" indent="-452520">
              <a:spcBef>
                <a:spcPts val="499"/>
              </a:spcBef>
              <a:buClr>
                <a:srgbClr val="ffffff"/>
              </a:buClr>
              <a:buSzPct val="95000"/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Reuniones en Aeropuertos Internacionale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érea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Encuesta de satisfacción:  Sistema de Gestión de calidad ISO 9001:2008 – AISP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oyecto PIRS – MIDAS – Dirección General de Migracion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Curso de Capacitación sobre evaluación de documentos de viajes para Compañías Aéreas del AISP,  a ser dictado por Dirección General de Migracion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Auditoria OACI -  5-13 de setiembre/16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Asistencia de victimas de accidentes de Aviación y a sus familiares  - Anexo 12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ograma FAL del Aeropuerto AISP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917640" indent="-452520">
              <a:spcBef>
                <a:spcPts val="451"/>
              </a:spcBef>
              <a:buClr>
                <a:srgbClr val="ffffff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3 Imagen" descr="bandera.png"/>
          <p:cNvPicPr/>
          <p:nvPr/>
        </p:nvPicPr>
        <p:blipFill>
          <a:blip r:embed="rId2"/>
          <a:stretch/>
        </p:blipFill>
        <p:spPr>
          <a:xfrm>
            <a:off x="3467160" y="380880"/>
            <a:ext cx="2057400" cy="1096920"/>
          </a:xfrm>
          <a:prstGeom prst="rect">
            <a:avLst/>
          </a:prstGeom>
          <a:ln w="0">
            <a:noFill/>
          </a:ln>
        </p:spPr>
      </p:pic>
      <p:pic>
        <p:nvPicPr>
          <p:cNvPr id="308" name="5 Imagen" descr="logo_resto.jpg"/>
          <p:cNvPicPr/>
          <p:nvPr/>
        </p:nvPicPr>
        <p:blipFill>
          <a:blip r:embed="rId3"/>
          <a:stretch/>
        </p:blipFill>
        <p:spPr>
          <a:xfrm>
            <a:off x="658800" y="396720"/>
            <a:ext cx="2040120" cy="1081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http://www.dinac.gov.py/v2/media/k2/items/cache/71601b6fd7fc74a9f4eea8e6c1b43d35_XL.jpg"/>
          <p:cNvPicPr/>
          <p:nvPr/>
        </p:nvPicPr>
        <p:blipFill>
          <a:blip r:embed="rId4"/>
          <a:stretch/>
        </p:blipFill>
        <p:spPr>
          <a:xfrm>
            <a:off x="5842080" y="396720"/>
            <a:ext cx="3047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5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7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9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1" name="1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  <p:sp>
        <p:nvSpPr>
          <p:cNvPr id="453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1 Título" descr=""/>
          <p:cNvPicPr/>
          <p:nvPr/>
        </p:nvPicPr>
        <p:blipFill>
          <a:blip r:embed="rId1"/>
          <a:stretch/>
        </p:blipFill>
        <p:spPr>
          <a:xfrm>
            <a:off x="-189000" y="6046920"/>
            <a:ext cx="6450120" cy="1274760"/>
          </a:xfrm>
          <a:prstGeom prst="rect">
            <a:avLst/>
          </a:prstGeom>
          <a:ln w="0">
            <a:noFill/>
          </a:ln>
        </p:spPr>
      </p:pic>
      <p:pic>
        <p:nvPicPr>
          <p:cNvPr id="455" name="1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9522000" cy="61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1 Título" descr=""/>
          <p:cNvPicPr/>
          <p:nvPr/>
        </p:nvPicPr>
        <p:blipFill>
          <a:blip r:embed="rId1"/>
          <a:stretch/>
        </p:blipFill>
        <p:spPr>
          <a:xfrm>
            <a:off x="512640" y="5608800"/>
            <a:ext cx="8575920" cy="15541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F:\foto  aerea Drone\P1050572.JPG"/>
          <p:cNvPicPr/>
          <p:nvPr/>
        </p:nvPicPr>
        <p:blipFill>
          <a:blip r:embed="rId2"/>
          <a:stretch/>
        </p:blipFill>
        <p:spPr>
          <a:xfrm>
            <a:off x="0" y="209520"/>
            <a:ext cx="95248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11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 EUROP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3" name="Picture 3" descr="D:\celular 2015\07-vie-01-cp--700x559.jpeg"/>
          <p:cNvPicPr/>
          <p:nvPr/>
        </p:nvPicPr>
        <p:blipFill>
          <a:blip r:embed="rId2"/>
          <a:stretch/>
        </p:blipFill>
        <p:spPr>
          <a:xfrm>
            <a:off x="1008000" y="714240"/>
            <a:ext cx="8502840" cy="6788160"/>
          </a:xfrm>
          <a:prstGeom prst="rect">
            <a:avLst/>
          </a:prstGeom>
          <a:ln w="0">
            <a:noFill/>
          </a:ln>
        </p:spPr>
      </p:pic>
      <p:sp>
        <p:nvSpPr>
          <p:cNvPr id="324" name="1 Título"/>
          <p:cNvSpPr/>
          <p:nvPr/>
        </p:nvSpPr>
        <p:spPr>
          <a:xfrm>
            <a:off x="1041480" y="6396120"/>
            <a:ext cx="850104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Desde diciembre, después de 21 años, Paraguay tiene vuelos directos a Europa, con 2 frecuencias semanales.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7" descr="C:\Users\vvelazquez\AppData\Local\Microsoft\Windows\Temporary Internet Files\Content.IE5\CDT6OTXG\el-primer-vuelo-de-air-europa-entre-espana-y-paraguay-fue-recibido-esta-manana-_860_573_1314386.jpeg"/>
          <p:cNvPicPr/>
          <p:nvPr/>
        </p:nvPicPr>
        <p:blipFill>
          <a:blip r:embed="rId1"/>
          <a:stretch/>
        </p:blipFill>
        <p:spPr>
          <a:xfrm>
            <a:off x="990720" y="985680"/>
            <a:ext cx="8369280" cy="5948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H:\AAPLANOS\KAPPA\DINAC\FONDO2.jpg"/>
          <p:cNvPicPr/>
          <p:nvPr/>
        </p:nvPicPr>
        <p:blipFill>
          <a:blip r:embed="rId2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27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 EUROPA – AIR EUROP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9" name="Picture 17" descr="C:\Users\VVELAZ~1\AppData\Local\Temp\Rar$DI00.461\Resolucion 1362.jpg"/>
          <p:cNvPicPr/>
          <p:nvPr/>
        </p:nvPicPr>
        <p:blipFill>
          <a:blip r:embed="rId3"/>
          <a:stretch/>
        </p:blipFill>
        <p:spPr>
          <a:xfrm>
            <a:off x="990720" y="5816520"/>
            <a:ext cx="45799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41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CONECTIVIDAD A CIUDAD DEL ES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3" name="Picture 3" descr="D:\celular 2015\IMG-20150824-WA0088.jpg"/>
          <p:cNvPicPr/>
          <p:nvPr/>
        </p:nvPicPr>
        <p:blipFill>
          <a:blip r:embed="rId2"/>
          <a:stretch/>
        </p:blipFill>
        <p:spPr>
          <a:xfrm>
            <a:off x="1041480" y="1987560"/>
            <a:ext cx="8205840" cy="3801960"/>
          </a:xfrm>
          <a:prstGeom prst="rect">
            <a:avLst/>
          </a:prstGeom>
          <a:ln w="0">
            <a:noFill/>
          </a:ln>
        </p:spPr>
      </p:pic>
      <p:sp>
        <p:nvSpPr>
          <p:cNvPr id="354" name="1 Título"/>
          <p:cNvSpPr/>
          <p:nvPr/>
        </p:nvSpPr>
        <p:spPr>
          <a:xfrm>
            <a:off x="1041480" y="5792760"/>
            <a:ext cx="8205840" cy="8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Desde setiembre, Amaszonas Paraguay, realiza 2 vuelos diarios a Ciudad del Este, mejorando la conectividad aérea en nuestro país. Los pasajeros se benefician en el ahorro del tiempo de viaje, seguridad y costos competitivos.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7" descr="C:\Users\vvelazquez\AppData\Local\Microsoft\Windows\Temporary Internet Files\Content.IE5\CDT6OTXG\Scan_Pic0001.jpg"/>
          <p:cNvPicPr/>
          <p:nvPr/>
        </p:nvPicPr>
        <p:blipFill>
          <a:blip r:embed="rId1"/>
          <a:stretch/>
        </p:blipFill>
        <p:spPr>
          <a:xfrm rot="21063600">
            <a:off x="1146240" y="4511520"/>
            <a:ext cx="4084560" cy="1852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H:\AAPLANOS\KAPPA\DINAC\FONDO2.jpg"/>
          <p:cNvPicPr/>
          <p:nvPr/>
        </p:nvPicPr>
        <p:blipFill>
          <a:blip r:embed="rId2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57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SOL del Paraguay – Inicio de vuel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9" name="Picture 2" descr="https://s3-sa-east-1.amazonaws.com/assets.abc.com.py/2016/01/07/una-de-las-aeronaves-de-sol-del-paraguay-_867_573_1321926.jpg"/>
          <p:cNvPicPr/>
          <p:nvPr/>
        </p:nvPicPr>
        <p:blipFill>
          <a:blip r:embed="rId3"/>
          <a:stretch/>
        </p:blipFill>
        <p:spPr>
          <a:xfrm>
            <a:off x="2270160" y="920880"/>
            <a:ext cx="4456080" cy="3139920"/>
          </a:xfrm>
          <a:prstGeom prst="rect">
            <a:avLst/>
          </a:prstGeom>
          <a:ln w="0">
            <a:noFill/>
          </a:ln>
        </p:spPr>
      </p:pic>
      <p:sp>
        <p:nvSpPr>
          <p:cNvPr id="370" name="1 CuadroTexto"/>
          <p:cNvSpPr/>
          <p:nvPr/>
        </p:nvSpPr>
        <p:spPr>
          <a:xfrm>
            <a:off x="1041480" y="6689880"/>
            <a:ext cx="809604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Partiendo desde el Aeropuerto Silvio Pettirossi,  a partir del 13 de enero con una capacidad para 12 pasajeros, más dos pilotos con destino a la ciudad de Encarnación y desde febrero a Pedro Juan Caballero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4" descr="C:\Users\vvelazquez\AppData\Local\Microsoft\Windows\Temporary Internet Files\Content.IE5\6ROQAQMJ\RESOLUCION Nº 15-2016.jpg"/>
          <p:cNvPicPr/>
          <p:nvPr/>
        </p:nvPicPr>
        <p:blipFill>
          <a:blip r:embed="rId4"/>
          <a:stretch/>
        </p:blipFill>
        <p:spPr>
          <a:xfrm rot="21043800">
            <a:off x="5498640" y="4211640"/>
            <a:ext cx="39038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73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SOL del Paraguay – vuelo inaugur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1 CuadroTexto"/>
          <p:cNvSpPr/>
          <p:nvPr/>
        </p:nvSpPr>
        <p:spPr>
          <a:xfrm>
            <a:off x="1190520" y="7037280"/>
            <a:ext cx="80964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Vuelo inaugural Asunción – Encarnación – Asunción – realizado el 12 de enero de 2016,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6" name="Picture 2" descr="C:\Users\vvelazquez\AppData\Local\Microsoft\Windows\Temporary Internet Files\Content.IE5\PWUB810O\el-brindis-de-rigor_863_573_1323629.jpeg"/>
          <p:cNvPicPr/>
          <p:nvPr/>
        </p:nvPicPr>
        <p:blipFill>
          <a:blip r:embed="rId2"/>
          <a:stretch/>
        </p:blipFill>
        <p:spPr>
          <a:xfrm>
            <a:off x="1636560" y="952560"/>
            <a:ext cx="4235760" cy="29988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Haga clic en Opciones"/>
          <p:cNvPicPr/>
          <p:nvPr/>
        </p:nvPicPr>
        <p:blipFill>
          <a:blip r:embed="rId3"/>
          <a:stretch/>
        </p:blipFill>
        <p:spPr>
          <a:xfrm>
            <a:off x="4762440" y="3968640"/>
            <a:ext cx="424188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89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INCIPALES TEMAS TRATADOS EN COMITÉ FAL AEROPUER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18 CuadroTexto"/>
          <p:cNvSpPr/>
          <p:nvPr/>
        </p:nvSpPr>
        <p:spPr>
          <a:xfrm rot="16200000">
            <a:off x="-1183320" y="2810520"/>
            <a:ext cx="3352680" cy="5504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19 CuadroTexto"/>
          <p:cNvSpPr/>
          <p:nvPr/>
        </p:nvSpPr>
        <p:spPr>
          <a:xfrm>
            <a:off x="1243080" y="5465880"/>
            <a:ext cx="82818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ño 2016 – AISP 2 reun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yecto PIRS – MIDAS – Dirección General de Migrac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Realización del Curso de Capacitación sobre evaluación de documentos de viajes para Compañías Aéreas del AISP,  a ser dictado por Dirección General de Migrac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2" name="Picture 20" descr="C:\Users\Usuario\AppData\Local\Microsoft\Windows\Temporary Internet Files\Content.IE5\FT3POMAW\FB_IMG_1464554241249.jpg"/>
          <p:cNvPicPr/>
          <p:nvPr/>
        </p:nvPicPr>
        <p:blipFill>
          <a:blip r:embed="rId2"/>
          <a:stretch/>
        </p:blipFill>
        <p:spPr>
          <a:xfrm>
            <a:off x="4079880" y="2657520"/>
            <a:ext cx="5445000" cy="3063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9" descr="C:\Users\Usuario\AppData\Local\Microsoft\Windows\Temporary Internet Files\Content.IE5\48GUUSPK\FB_IMG_1464554253751.jpg"/>
          <p:cNvPicPr/>
          <p:nvPr/>
        </p:nvPicPr>
        <p:blipFill>
          <a:blip r:embed="rId3"/>
          <a:stretch/>
        </p:blipFill>
        <p:spPr>
          <a:xfrm>
            <a:off x="946080" y="857160"/>
            <a:ext cx="44370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405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INCIPALES TEMAS TRATADOS EN COMITÉ FAL AEROPUER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18 CuadroTexto"/>
          <p:cNvSpPr/>
          <p:nvPr/>
        </p:nvSpPr>
        <p:spPr>
          <a:xfrm rot="16200000">
            <a:off x="-1183320" y="2810520"/>
            <a:ext cx="3352680" cy="5504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19 CuadroTexto"/>
          <p:cNvSpPr/>
          <p:nvPr/>
        </p:nvSpPr>
        <p:spPr>
          <a:xfrm>
            <a:off x="1017720" y="5249880"/>
            <a:ext cx="8281800" cy="21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uditoria OACI – Fecha  5-13 de setiembre/16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grama de Asistencia de victimas de accidentes de Aviación y a sus familiar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yecto del Programa FAL del Aeropuerto AIS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8" name="Picture 18" descr="C:\Users\Usuario\AppData\Local\Microsoft\Windows\Temporary Internet Files\Content.IE5\NV7QA57M\FB_IMG_1464554268984.jpg"/>
          <p:cNvPicPr/>
          <p:nvPr/>
        </p:nvPicPr>
        <p:blipFill>
          <a:blip r:embed="rId2"/>
          <a:stretch/>
        </p:blipFill>
        <p:spPr>
          <a:xfrm>
            <a:off x="1090440" y="1001880"/>
            <a:ext cx="794412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0:20Z</dcterms:created>
  <dc:creator>Margaret Kennedy</dc:creator>
  <dc:description/>
  <dc:language>en-US</dc:language>
  <cp:lastModifiedBy>Victor Velazquez</cp:lastModifiedBy>
  <cp:lastPrinted>2014-08-04T16:47:21Z</cp:lastPrinted>
  <dcterms:modified xsi:type="dcterms:W3CDTF">2016-07-26T11:19:28Z</dcterms:modified>
  <cp:revision>787</cp:revision>
  <dc:subject/>
  <dc:title>SNRE Proyecto SPR</dc:title>
</cp:coreProperties>
</file>