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5.png" ContentType="image/png"/>
  <Override PartName="/ppt/media/image19.jpeg" ContentType="image/jpeg"/>
  <Override PartName="/ppt/media/image22.jpeg" ContentType="image/jpeg"/>
  <Override PartName="/ppt/media/image39.png" ContentType="image/png"/>
  <Override PartName="/ppt/media/image20.jpeg" ContentType="image/jpeg"/>
  <Override PartName="/ppt/media/image26.png" ContentType="image/png"/>
  <Override PartName="/ppt/media/image17.jpeg" ContentType="image/jpeg"/>
  <Override PartName="/ppt/media/image16.jpeg" ContentType="image/jpeg"/>
  <Override PartName="/ppt/media/image15.jpeg" ContentType="image/jpeg"/>
  <Override PartName="/ppt/media/image10.jpeg" ContentType="image/jpeg"/>
  <Override PartName="/ppt/media/image8.jpeg" ContentType="image/jpeg"/>
  <Override PartName="/ppt/media/image38.png" ContentType="image/png"/>
  <Override PartName="/ppt/media/image9.jpeg" ContentType="image/jpeg"/>
  <Override PartName="/ppt/media/image28.png" ContentType="image/png"/>
  <Override PartName="/ppt/media/image7.jpeg" ContentType="image/jpeg"/>
  <Override PartName="/ppt/media/image32.png" ContentType="image/png"/>
  <Override PartName="/ppt/media/image33.png" ContentType="image/png"/>
  <Override PartName="/ppt/media/image14.jpeg" ContentType="image/jpeg"/>
  <Override PartName="/ppt/media/image35.png" ContentType="image/png"/>
  <Override PartName="/ppt/media/image5.jpeg" ContentType="image/jpeg"/>
  <Override PartName="/ppt/media/image36.png" ContentType="image/png"/>
  <Override PartName="/ppt/media/image18.png" ContentType="image/png"/>
  <Override PartName="/ppt/media/image6.jpeg" ContentType="image/jpeg"/>
  <Override PartName="/ppt/media/image37.png" ContentType="image/png"/>
  <Override PartName="/ppt/media/image40.jpeg" ContentType="image/jpeg"/>
  <Override PartName="/ppt/media/image13.jpeg" ContentType="image/jpeg"/>
  <Override PartName="/ppt/media/image34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jpeg" ContentType="image/jpeg"/>
  <Override PartName="/ppt/media/image23.jpeg" ContentType="image/jpeg"/>
  <Override PartName="/ppt/media/image30.png" ContentType="image/png"/>
  <Override PartName="/ppt/media/image3.jpeg" ContentType="image/jpeg"/>
  <Override PartName="/ppt/media/image31.png" ContentType="image/png"/>
  <Override PartName="/ppt/media/image1.png" ContentType="image/png"/>
  <Override PartName="/ppt/media/image11.jpeg" ContentType="image/jpeg"/>
  <Override PartName="/ppt/media/image2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</p:sldIdLst>
  <p:sldSz cx="9525000" cy="7621588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4428-20CE-4C0E-9481-AD72610E8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18D34-7C93-4025-82A6-5B9B0B704A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F2F3-4AC9-4488-9575-76F410883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BFE52-E23D-4DCC-9DC7-20170B08C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BBAF2-501B-4F06-81F8-0C1334CA7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09AA-35AB-4323-86C6-6C2D30DFF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DDE46-7DA4-476A-AD7E-2C982621A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141AC-0785-44E0-9156-79187F16F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08EB1-5323-4EF8-89EF-F6EA9040F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CC02D-6F6A-4EC0-A27B-A1320CB4D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AAB59-BB2B-4796-AA1D-B0B241A58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0622-B3EA-418D-A49E-1D689A077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580F32-69F7-4641-AE4B-7AE498247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4974FB-33A3-47C1-A99D-DF89648BA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423C5D-38B0-4243-90DD-E1E5368F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60A15-6AAC-4B83-BC6B-8EF57DEAA1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533B1-FA43-431C-A015-7D3120B70F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805D2D-B9E5-4422-8759-2B9F8EF8E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8A3782-51AD-46C0-B8EB-519A46BA3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55A7-3F88-4E28-91EE-C1B8BD1C22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872A94-ADE4-40EC-BE3E-95BA35796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73DE97-EB56-4662-85E6-0F2E26FF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C15BF-E93E-4EBC-AEAA-4162DA674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79FA84-8EF6-4BAD-B27E-D6111EC20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3E4C1F-19EF-4089-80D1-3F32F7A12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F58DF9-77B3-4AC1-AD6D-DC9F7885F4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938F7A-C6E5-4B6D-92A4-2AC874499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2A3FB-579D-4D73-8BFC-460AD3208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F8E1D2-8AC2-49DF-91BD-509697F40B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906C84-C99F-4873-A9D0-591E99FF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1285C5B-5ED1-4600-ADB8-0844DF937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FB8CC-F0E9-4593-87B0-0693D966D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5D520F-259E-4E47-9646-6C377FA57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68217-B46D-4056-9048-8FFE9FEC5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B916A4-D01E-4FE4-A95E-58C62726B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98670-4B03-4D38-8B39-27A5A80DB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C6F5E4-2545-443A-BA76-9A8EB6365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BB9132-6298-4754-8101-B0BA9D561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4EEB4E-0B19-4D48-A1B1-B618D4D8D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B4D8EB-C5AF-4A19-B31A-E081A2E70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F11377-DFCC-4F1B-8CD6-FA5A0F03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10BDBA-8D07-472C-8CDD-94C160A88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7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BF31C1-341D-42D0-AC04-D638CB0B1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3528B9-95DA-4A62-88FD-69A92C6E9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9859D-5054-4E23-953D-3AF871C8B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FAF36A-12CB-4E3A-B0C8-1573C7E56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0F09ED6-D5B2-4CBF-B102-EE6421FB4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69D0DA-B007-480E-BA2C-6BF178B4B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A41B09A-1A8C-422B-B0CB-AC64F7AC2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82D6B9-ECFC-4E39-84F3-3B2F16ED6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F4F8F3-E358-4714-A6C6-6C22C08AD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635839-CFC3-467E-932F-DA20DA0FE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A14E43-E5F2-40FF-91FF-28BE0D286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67073-2D68-4AE5-88AC-A099D6F97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89067E-7C90-4DF9-A13D-41F55B095D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43C5-3A25-4DC9-8234-DF81C4A66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BB9165-9BED-49A3-8F2F-64FCBA20B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7A36D-E8E3-45E5-B7D8-E5F6C22DEA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32EB7B-6DF3-4E4C-AAE2-BCE1D8BA9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E109EA-6861-4DCF-82DC-B1D4DDA8CE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3F39EC-C277-4A76-96CE-87E81A61A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797B30-D08F-4330-8A15-1FC45D56E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C11900-D410-478C-B0A5-07295CEE9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07450E-5C4E-4161-ACBD-19C189796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4B7419-C970-4419-90B0-B09583EA0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FD4280-B8C3-44C3-B9A2-43CB8BE7F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5668-EA72-41AF-BF24-779CE818A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19409C-19EB-4CDE-A521-54B94B4D6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CA770C-2B41-41A8-B10C-5D452221E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8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9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77B253-B041-4008-9EF9-E3766A4E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15F98A-E3A6-4520-B4AD-10D2C649E5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51530-5745-40F9-AAAE-70BBB7A42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777A40D-058D-465B-BA3E-0E0EE1B6F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B23E05-2616-4923-BC8D-66C925075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20A0F6-105C-47FD-AE62-FE5C4360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subTitle"/>
          </p:nvPr>
        </p:nvSpPr>
        <p:spPr>
          <a:xfrm>
            <a:off x="476280" y="298080"/>
            <a:ext cx="8572320" cy="7205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984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2D22B8-8F85-45CC-BC1A-E4A982A63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B52AF8-452B-4BED-8D4A-964664C2F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9761-6613-4FAD-B338-55252A2FC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413A388-7748-4241-85F3-B758979F7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D96804-2324-40DD-A0E1-EEDC1A320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0C70A9-B9C7-47FB-80BE-1F375972A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869000" y="47451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BE6118-17E6-4F96-BB7A-BF60DF54B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337464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273360" y="20919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7628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9" name="PlaceHolder 6"/>
          <p:cNvSpPr>
            <a:spLocks noGrp="1"/>
          </p:cNvSpPr>
          <p:nvPr>
            <p:ph/>
          </p:nvPr>
        </p:nvSpPr>
        <p:spPr>
          <a:xfrm>
            <a:off x="337464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00" name="PlaceHolder 7"/>
          <p:cNvSpPr>
            <a:spLocks noGrp="1"/>
          </p:cNvSpPr>
          <p:nvPr>
            <p:ph/>
          </p:nvPr>
        </p:nvSpPr>
        <p:spPr>
          <a:xfrm>
            <a:off x="6273360" y="4745160"/>
            <a:ext cx="27601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80AE41-B07E-4DDE-B281-DEA7FEC37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7628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69000" y="2091960"/>
            <a:ext cx="418320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6280" y="4745160"/>
            <a:ext cx="8572320" cy="2422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41EA1-BDFB-4AE9-BDA3-00C6F57E5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991040" y="720252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75920" y="7202520"/>
            <a:ext cx="44370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A4A9F2-7EF3-4ABF-9016-E7CF736D60DE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9 Triángulo isósceles"/>
          <p:cNvSpPr/>
          <p:nvPr/>
        </p:nvSpPr>
        <p:spPr>
          <a:xfrm rot="16200000">
            <a:off x="7802280" y="588276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428480" y="6679800"/>
            <a:ext cx="6032520" cy="4050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1428480" y="6276600"/>
            <a:ext cx="6032520" cy="4064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8740440" y="6392880"/>
            <a:ext cx="523800" cy="4046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8985F-8606-42F6-87A4-07A741521C50}" type="slidenum">
              <a:rPr b="0" lang="es-ES" sz="14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10 Triángulo rectángulo"/>
          <p:cNvSpPr/>
          <p:nvPr/>
        </p:nvSpPr>
        <p:spPr>
          <a:xfrm>
            <a:off x="6480" y="1584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7 Conector recto"/>
          <p:cNvSpPr/>
          <p:nvPr/>
        </p:nvSpPr>
        <p:spPr>
          <a:xfrm>
            <a:off x="0" y="648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1" name="8 Conector recto"/>
          <p:cNvSpPr/>
          <p:nvPr/>
        </p:nvSpPr>
        <p:spPr>
          <a:xfrm flipH="1">
            <a:off x="6738480" y="549684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991040" y="7201080"/>
            <a:ext cx="222264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475920" y="7202520"/>
            <a:ext cx="44370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7905600" y="7202520"/>
            <a:ext cx="52416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5264A-7916-4EF7-8BC6-AC7EABDA2F14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9 Triángulo rectángulo"/>
          <p:cNvSpPr/>
          <p:nvPr/>
        </p:nvSpPr>
        <p:spPr>
          <a:xfrm flipV="1">
            <a:off x="6480" y="5400"/>
            <a:ext cx="9512280" cy="7597800"/>
          </a:xfrm>
          <a:prstGeom prst="rtTriangle">
            <a:avLst/>
          </a:prstGeom>
          <a:gradFill rotWithShape="0">
            <a:gsLst>
              <a:gs pos="0">
                <a:srgbClr val="eeece1">
                  <a:alpha val="1176"/>
                </a:srgbClr>
              </a:gs>
              <a:gs pos="100000">
                <a:srgbClr val="eeece1">
                  <a:alpha val="10196"/>
                </a:srgbClr>
              </a:gs>
            </a:gsLst>
            <a:lin ang="79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11 Triángulo isósceles"/>
          <p:cNvSpPr/>
          <p:nvPr/>
        </p:nvSpPr>
        <p:spPr>
          <a:xfrm flipV="1" rot="5400000">
            <a:off x="7802280" y="387720"/>
            <a:ext cx="2103480" cy="1347840"/>
          </a:xfrm>
          <a:prstGeom prst="triangle">
            <a:avLst>
              <a:gd name="adj" fmla="val 51324"/>
            </a:avLst>
          </a:prstGeom>
          <a:gradFill rotWithShape="0">
            <a:gsLst>
              <a:gs pos="0">
                <a:srgbClr val="18477f"/>
              </a:gs>
              <a:gs pos="100000">
                <a:srgbClr val="87aded"/>
              </a:gs>
            </a:gsLst>
            <a:lin ang="2088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12 Conector recto"/>
          <p:cNvSpPr/>
          <p:nvPr/>
        </p:nvSpPr>
        <p:spPr>
          <a:xfrm flipH="1" flipV="1">
            <a:off x="6738480" y="10800"/>
            <a:ext cx="2784600" cy="2111400"/>
          </a:xfrm>
          <a:prstGeom prst="line">
            <a:avLst/>
          </a:prstGeom>
          <a:ln cap="rnd" w="6120">
            <a:solidFill>
              <a:srgbClr val="b5bed3">
                <a:alpha val="4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14 Conector recto"/>
          <p:cNvSpPr/>
          <p:nvPr/>
        </p:nvSpPr>
        <p:spPr>
          <a:xfrm flipV="1">
            <a:off x="0" y="6120"/>
            <a:ext cx="9518760" cy="7607160"/>
          </a:xfrm>
          <a:prstGeom prst="line">
            <a:avLst/>
          </a:prstGeom>
          <a:ln cap="rnd" w="5040">
            <a:solidFill>
              <a:srgbClr val="abb6ce">
                <a:alpha val="3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 type="dt" idx="10"/>
          </p:nvPr>
        </p:nvSpPr>
        <p:spPr>
          <a:xfrm>
            <a:off x="7246800" y="7196040"/>
            <a:ext cx="2222640" cy="33984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 type="ftr" idx="11"/>
          </p:nvPr>
        </p:nvSpPr>
        <p:spPr>
          <a:xfrm>
            <a:off x="2728800" y="7202520"/>
            <a:ext cx="4438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 type="sldNum" idx="12"/>
          </p:nvPr>
        </p:nvSpPr>
        <p:spPr>
          <a:xfrm>
            <a:off x="8802360" y="900000"/>
            <a:ext cx="523800" cy="333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17EF32-40EE-41C2-A5D1-986A0E75984D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990680" y="7202520"/>
            <a:ext cx="22194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1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476280" y="7202520"/>
            <a:ext cx="443880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905600" y="7203600"/>
            <a:ext cx="524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3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0DFF2-94B5-4065-B096-B9001175F01D}" type="slidenum">
              <a:rPr b="0" lang="es-ES" sz="13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 type="dt" idx="16"/>
          </p:nvPr>
        </p:nvSpPr>
        <p:spPr>
          <a:xfrm>
            <a:off x="6540480" y="7284600"/>
            <a:ext cx="22226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 type="ftr" idx="17"/>
          </p:nvPr>
        </p:nvSpPr>
        <p:spPr>
          <a:xfrm>
            <a:off x="1182240" y="7284600"/>
            <a:ext cx="535788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 type="sldNum" idx="18"/>
          </p:nvPr>
        </p:nvSpPr>
        <p:spPr>
          <a:xfrm>
            <a:off x="8760960" y="7284600"/>
            <a:ext cx="52380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14ECB-0C55-46A3-BCFE-AB799F11F948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76280" y="298080"/>
            <a:ext cx="8572320" cy="15541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ctr">
            <a:noAutofit/>
          </a:bodyPr>
          <a:p>
            <a:pPr marL="51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749cdc"/>
                </a:solidFill>
                <a:latin typeface="Century Gothic"/>
              </a:rPr>
              <a:t>Click to edit the title text format</a:t>
            </a:r>
            <a:endParaRPr b="0" lang="en-US" sz="4500" spc="-1" strike="noStrike">
              <a:solidFill>
                <a:srgbClr val="749cdc"/>
              </a:solidFill>
              <a:latin typeface="Century Gothic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476280" y="2091960"/>
            <a:ext cx="8572320" cy="50799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>
              <a:spcBef>
                <a:spcPts val="799"/>
              </a:spcBef>
              <a:buClr>
                <a:srgbClr val="4f81bd"/>
              </a:buClr>
              <a:buSzPct val="80000"/>
              <a:buFont typeface="Wingdings 2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1" marL="878040" indent="-303480">
              <a:spcBef>
                <a:spcPts val="799"/>
              </a:spcBef>
              <a:buClr>
                <a:srgbClr val="4f81bd"/>
              </a:buClr>
              <a:buSzPct val="95000"/>
              <a:buFont typeface="Verdana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2" marL="1181160" indent="-24300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3" marL="1467000" indent="-222480">
              <a:spcBef>
                <a:spcPts val="799"/>
              </a:spcBef>
              <a:buClr>
                <a:srgbClr val="4f81bd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4" marL="1711440" indent="-222480">
              <a:spcBef>
                <a:spcPts val="799"/>
              </a:spcBef>
              <a:buClr>
                <a:srgbClr val="97acd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5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lvl="6" marL="1711440" indent="-222480">
              <a:spcBef>
                <a:spcPts val="799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entury Gothic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 type="dt" idx="19"/>
          </p:nvPr>
        </p:nvSpPr>
        <p:spPr>
          <a:xfrm>
            <a:off x="6362280" y="7284600"/>
            <a:ext cx="218916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 type="ftr" idx="20"/>
          </p:nvPr>
        </p:nvSpPr>
        <p:spPr>
          <a:xfrm>
            <a:off x="1219320" y="7286760"/>
            <a:ext cx="5154480" cy="33480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 type="sldNum" idx="21"/>
          </p:nvPr>
        </p:nvSpPr>
        <p:spPr>
          <a:xfrm>
            <a:off x="8559360" y="7284600"/>
            <a:ext cx="381240" cy="3351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DAFB2-86FE-43ED-A858-F17106928E1F}" type="slidenum">
              <a:rPr b="0" lang="es-ES" sz="1000" spc="-1" strike="noStrike">
                <a:solidFill>
                  <a:srgbClr val="ffffff"/>
                </a:solidFill>
                <a:latin typeface="Century Gothic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5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/>
          </p:nvPr>
        </p:nvSpPr>
        <p:spPr>
          <a:xfrm>
            <a:off x="476280" y="1947960"/>
            <a:ext cx="8572320" cy="485928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Dirección Nacional de Aeronáutica Civil – DINAC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INFORME DE COMITÉ FAL AEROPUERTOS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LIC. VICTOR VELAZQUEZ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  <a:p>
            <a:pPr marL="3668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200" spc="-1" strike="noStrike">
                <a:solidFill>
                  <a:srgbClr val="ffffff"/>
                </a:solidFill>
                <a:latin typeface="Century Gothic"/>
              </a:rPr>
              <a:t>26-07-2016</a:t>
            </a:r>
            <a:endParaRPr b="0" lang="en-US" sz="32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2" name="3 Imagen" descr="bandera.png"/>
          <p:cNvPicPr/>
          <p:nvPr/>
        </p:nvPicPr>
        <p:blipFill>
          <a:blip r:embed="rId1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3" name="5 Imagen" descr="logo_resto.jpg"/>
          <p:cNvPicPr/>
          <p:nvPr/>
        </p:nvPicPr>
        <p:blipFill>
          <a:blip r:embed="rId2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6" descr="http://www.dinac.gov.py/v2/media/k2/items/cache/71601b6fd7fc74a9f4eea8e6c1b43d35_XL.jpg"/>
          <p:cNvPicPr/>
          <p:nvPr/>
        </p:nvPicPr>
        <p:blipFill>
          <a:blip r:embed="rId3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f497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1 Título" descr=""/>
          <p:cNvPicPr/>
          <p:nvPr/>
        </p:nvPicPr>
        <p:blipFill>
          <a:blip r:embed="rId1"/>
          <a:stretch/>
        </p:blipFill>
        <p:spPr>
          <a:xfrm>
            <a:off x="231840" y="268200"/>
            <a:ext cx="8815320" cy="1749600"/>
          </a:xfrm>
          <a:prstGeom prst="rect">
            <a:avLst/>
          </a:prstGeom>
          <a:ln w="0">
            <a:noFill/>
          </a:ln>
        </p:spPr>
      </p:pic>
      <p:sp>
        <p:nvSpPr>
          <p:cNvPr id="420" name="1 Título"/>
          <p:cNvSpPr/>
          <p:nvPr/>
        </p:nvSpPr>
        <p:spPr>
          <a:xfrm>
            <a:off x="5119560" y="5238720"/>
            <a:ext cx="4017960" cy="19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just"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1100" spc="-1" strike="noStrike">
                <a:solidFill>
                  <a:srgbClr val="000000"/>
                </a:solidFill>
                <a:latin typeface="Arial"/>
                <a:ea typeface="Arial"/>
              </a:rPr>
              <a:t>SE CONTRATO LOS SERVICIOS DE CONSULTORIA PARA LA CERTIFICACION ISO 9001/2008, DE LOS SERVICIOS AEROPORTUARIOS DEL AISP, EN TOTAL 15 PROCESOS RELACIONADOS A LA ATENCION DE PASAJEROS Y A LA SEGURIDAD OPERACIONAL.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79560"/>
                <a:tab algn="l" pos="1959120"/>
                <a:tab algn="l" pos="2938320"/>
                <a:tab algn="l" pos="3917880"/>
                <a:tab algn="l" pos="4897440"/>
                <a:tab algn="l" pos="5877000"/>
                <a:tab algn="l" pos="6856560"/>
                <a:tab algn="l" pos="7835760"/>
                <a:tab algn="l" pos="8815320"/>
                <a:tab algn="l" pos="9794880"/>
                <a:tab algn="l" pos="10774440"/>
              </a:tabLst>
            </a:pPr>
            <a:r>
              <a:rPr b="0" lang="es-PY" sz="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600"/>
            </a:br>
            <a:endParaRPr b="0" lang="en-US" sz="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1" name="Picture 5" descr="C:\Users\Usuario\Documents\ESCAN ISO.jpg"/>
          <p:cNvPicPr/>
          <p:nvPr/>
        </p:nvPicPr>
        <p:blipFill>
          <a:blip r:embed="rId2"/>
          <a:stretch/>
        </p:blipFill>
        <p:spPr>
          <a:xfrm rot="21184800">
            <a:off x="604800" y="1793880"/>
            <a:ext cx="4621320" cy="241452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5" descr="C:\Users\Usuario\AppData\Local\Microsoft\Windows\Temporary Internet Files\Low\Content.IE5\18YWFR88\IMG-20140106-WA0002[1].jpg"/>
          <p:cNvPicPr/>
          <p:nvPr/>
        </p:nvPicPr>
        <p:blipFill>
          <a:blip r:embed="rId3"/>
          <a:stretch/>
        </p:blipFill>
        <p:spPr>
          <a:xfrm>
            <a:off x="619200" y="4595760"/>
            <a:ext cx="3600360" cy="2700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6" descr="C:\Users\Usuario\AppData\Local\Microsoft\Windows\Temporary Internet Files\Low\Content.IE5\QUDQGEZE\IMG-20140106-WA0001[1].jpg"/>
          <p:cNvPicPr/>
          <p:nvPr/>
        </p:nvPicPr>
        <p:blipFill>
          <a:blip r:embed="rId4"/>
          <a:stretch/>
        </p:blipFill>
        <p:spPr>
          <a:xfrm>
            <a:off x="5119560" y="1666800"/>
            <a:ext cx="4172040" cy="3129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3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12920" y="2770200"/>
            <a:ext cx="5024160" cy="367992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/>
          </a:bodyPr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3000" spc="-1" strike="noStrike">
                <a:solidFill>
                  <a:srgbClr val="000000"/>
                </a:solidFill>
                <a:latin typeface="Tahoma"/>
              </a:rPr>
              <a:t>PRESENTACIÓN DEL RESULTADO DE ENCUESTAS REALIZADAS EN EL AISP 2016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Y" sz="3000" spc="-1" strike="noStrike">
                <a:solidFill>
                  <a:srgbClr val="000000"/>
                </a:solidFill>
                <a:latin typeface="Tahoma"/>
              </a:rPr>
              <a:t>LICITACIÓN POR CONCURSO DE OFERTAS N° 29/2015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  <a:p>
            <a:pPr marL="477720" indent="-407880"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6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27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ormulario de Encuesta utilizado FL-SGC-10 V00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Periodo: 11 de Enero y el 28 de Enero del 2016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Fueron encuestadas 510 personas y respondienron 315 persona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Encuestas realizadas de manera personalizada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Las encuestas se realizaron en diferentes Horarios (Madrugada,Mañana, Tarde, Noche).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28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9" name="1 Imagen" descr=""/>
          <p:cNvPicPr/>
          <p:nvPr/>
        </p:nvPicPr>
        <p:blipFill>
          <a:blip r:embed="rId1"/>
          <a:stretch/>
        </p:blipFill>
        <p:spPr>
          <a:xfrm>
            <a:off x="12600" y="0"/>
            <a:ext cx="9499680" cy="7620120"/>
          </a:xfrm>
          <a:prstGeom prst="rect">
            <a:avLst/>
          </a:prstGeom>
          <a:ln w="0">
            <a:noFill/>
          </a:ln>
        </p:spPr>
      </p:pic>
      <p:sp>
        <p:nvSpPr>
          <p:cNvPr id="430" name="Rectangle 3"/>
          <p:cNvSpPr/>
          <p:nvPr/>
        </p:nvSpPr>
        <p:spPr>
          <a:xfrm>
            <a:off x="336600" y="770040"/>
            <a:ext cx="900108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t">
            <a:noAutofit/>
          </a:bodyPr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r>
              <a:rPr b="0" lang="es-PY" sz="3000" spc="-1" strike="noStrike">
                <a:solidFill>
                  <a:srgbClr val="7f7f7f"/>
                </a:solidFill>
                <a:latin typeface="Tahoma"/>
                <a:ea typeface="Tahoma"/>
              </a:rPr>
              <a:t>Muestras tomadas en el área  de estacionamiento,  embarque y desembarque, área restringida y pública, pasajeros y acompañantes. </a:t>
            </a: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7f7f7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  <a:p>
            <a:pPr marL="509760" indent="-509760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816120"/>
                <a:tab algn="l" pos="1631880"/>
                <a:tab algn="l" pos="2448000"/>
                <a:tab algn="l" pos="3263760"/>
                <a:tab algn="l" pos="4079880"/>
                <a:tab algn="l" pos="4896000"/>
                <a:tab algn="l" pos="5711760"/>
                <a:tab algn="l" pos="6527880"/>
                <a:tab algn="l" pos="7343640"/>
                <a:tab algn="l" pos="8159760"/>
                <a:tab algn="l" pos="8975880"/>
                <a:tab algn="l" pos="9791640"/>
                <a:tab algn="l" pos="10607760"/>
              </a:tabLst>
            </a:pPr>
            <a:endParaRPr b="0" lang="en-US" sz="3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1" name="Rectangle 2" descr=""/>
          <p:cNvPicPr/>
          <p:nvPr/>
        </p:nvPicPr>
        <p:blipFill>
          <a:blip r:embed="rId2"/>
          <a:stretch/>
        </p:blipFill>
        <p:spPr>
          <a:xfrm>
            <a:off x="212760" y="6364440"/>
            <a:ext cx="6091200" cy="72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3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5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Rectangle 2"/>
          <p:cNvSpPr/>
          <p:nvPr/>
        </p:nvSpPr>
        <p:spPr>
          <a:xfrm>
            <a:off x="336600" y="6370560"/>
            <a:ext cx="5964120" cy="63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7520" bIns="47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7f7f7f"/>
                </a:solidFill>
                <a:latin typeface="Tahoma"/>
              </a:rPr>
              <a:t>EDIFICIO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37" name="6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1 Título" descr=""/>
          <p:cNvPicPr/>
          <p:nvPr/>
        </p:nvPicPr>
        <p:blipFill>
          <a:blip r:embed="rId1"/>
          <a:stretch/>
        </p:blipFill>
        <p:spPr>
          <a:xfrm>
            <a:off x="139680" y="6132600"/>
            <a:ext cx="6346800" cy="1116000"/>
          </a:xfrm>
          <a:prstGeom prst="rect">
            <a:avLst/>
          </a:prstGeom>
          <a:ln w="0">
            <a:noFill/>
          </a:ln>
        </p:spPr>
      </p:pic>
      <p:pic>
        <p:nvPicPr>
          <p:cNvPr id="439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1 Título"/>
          <p:cNvSpPr/>
          <p:nvPr/>
        </p:nvSpPr>
        <p:spPr>
          <a:xfrm>
            <a:off x="262080" y="6130800"/>
            <a:ext cx="6226200" cy="111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600" spc="-1" strike="noStrike">
                <a:solidFill>
                  <a:srgbClr val="7f7f7f"/>
                </a:solidFill>
                <a:latin typeface="Tahoma"/>
              </a:rPr>
              <a:t>CHECK IN COMPAÑÍA AÉREA</a:t>
            </a:r>
            <a:endParaRPr b="0" lang="en-US" sz="26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1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3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5" name="1 Título" descr=""/>
          <p:cNvPicPr/>
          <p:nvPr/>
        </p:nvPicPr>
        <p:blipFill>
          <a:blip r:embed="rId1"/>
          <a:stretch/>
        </p:blipFill>
        <p:spPr>
          <a:xfrm>
            <a:off x="444600" y="1359000"/>
            <a:ext cx="8570880" cy="1555560"/>
          </a:xfrm>
          <a:prstGeom prst="rect">
            <a:avLst/>
          </a:prstGeom>
          <a:ln w="0">
            <a:noFill/>
          </a:ln>
        </p:spPr>
      </p:pic>
      <p:sp>
        <p:nvSpPr>
          <p:cNvPr id="306" name=""/>
          <p:cNvSpPr txBox="1"/>
          <p:nvPr/>
        </p:nvSpPr>
        <p:spPr>
          <a:xfrm>
            <a:off x="369720" y="2945880"/>
            <a:ext cx="8823600" cy="3816360"/>
          </a:xfrm>
          <a:prstGeom prst="rect">
            <a:avLst/>
          </a:prstGeom>
          <a:noFill/>
          <a:ln w="0">
            <a:noFill/>
          </a:ln>
        </p:spPr>
        <p:txBody>
          <a:bodyPr lIns="97920" rIns="97920" tIns="48960" bIns="48960" anchor="t">
            <a:normAutofit fontScale="99000"/>
          </a:bodyPr>
          <a:p>
            <a:pPr lvl="1" marL="917640" indent="-452520">
              <a:spcBef>
                <a:spcPts val="499"/>
              </a:spcBef>
              <a:buClr>
                <a:srgbClr val="ffffff"/>
              </a:buClr>
              <a:buSzPct val="95000"/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Century Gothic"/>
              </a:rPr>
              <a:t>Reuniones en Aeropuertos Internacionales.</a:t>
            </a:r>
            <a:endParaRPr b="0" lang="en-US" sz="20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érea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Encuesta de satisfacción:  Sistema de Gestión de calidad ISO 9001:2008 –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uditoria OACI -  5-13 de setiembre/16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Asistencia de victimas de accidentes de Aviación y a sus familiares  - Anexo 12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ograma FAL del Aeropuerto AISP.</a:t>
            </a: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2" marL="1216080" indent="-452520">
              <a:spcBef>
                <a:spcPts val="451"/>
              </a:spcBef>
              <a:buClr>
                <a:srgbClr val="ffffff"/>
              </a:buClr>
              <a:buFont typeface="Century Gothic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  <a:p>
            <a:pPr lvl="1" marL="917640" indent="-452520">
              <a:spcBef>
                <a:spcPts val="451"/>
              </a:spcBef>
              <a:buClr>
                <a:srgbClr val="ffffff"/>
              </a:buClr>
              <a:buSzPct val="95000"/>
              <a:buFont typeface="Verdana"/>
              <a:buChar char="›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307" name="3 Imagen" descr="bandera.png"/>
          <p:cNvPicPr/>
          <p:nvPr/>
        </p:nvPicPr>
        <p:blipFill>
          <a:blip r:embed="rId2"/>
          <a:stretch/>
        </p:blipFill>
        <p:spPr>
          <a:xfrm>
            <a:off x="3467160" y="380880"/>
            <a:ext cx="2057400" cy="1096920"/>
          </a:xfrm>
          <a:prstGeom prst="rect">
            <a:avLst/>
          </a:prstGeom>
          <a:ln w="0">
            <a:noFill/>
          </a:ln>
        </p:spPr>
      </p:pic>
      <p:pic>
        <p:nvPicPr>
          <p:cNvPr id="308" name="5 Imagen" descr="logo_resto.jpg"/>
          <p:cNvPicPr/>
          <p:nvPr/>
        </p:nvPicPr>
        <p:blipFill>
          <a:blip r:embed="rId3"/>
          <a:stretch/>
        </p:blipFill>
        <p:spPr>
          <a:xfrm>
            <a:off x="658800" y="396720"/>
            <a:ext cx="2040120" cy="108108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6" descr="http://www.dinac.gov.py/v2/media/k2/items/cache/71601b6fd7fc74a9f4eea8e6c1b43d35_XL.jpg"/>
          <p:cNvPicPr/>
          <p:nvPr/>
        </p:nvPicPr>
        <p:blipFill>
          <a:blip r:embed="rId4"/>
          <a:stretch/>
        </p:blipFill>
        <p:spPr>
          <a:xfrm>
            <a:off x="5842080" y="396720"/>
            <a:ext cx="3047760" cy="106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5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- MIGR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7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132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49" name="2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51" name="1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3 Gráfico" descr=""/>
          <p:cNvPicPr/>
          <p:nvPr/>
        </p:nvPicPr>
        <p:blipFill>
          <a:blip r:embed="rId1"/>
          <a:stretch/>
        </p:blipFill>
        <p:spPr>
          <a:xfrm>
            <a:off x="0" y="0"/>
            <a:ext cx="9522000" cy="6035760"/>
          </a:xfrm>
          <a:prstGeom prst="rect">
            <a:avLst/>
          </a:prstGeom>
          <a:ln w="0">
            <a:noFill/>
          </a:ln>
        </p:spPr>
      </p:pic>
      <p:sp>
        <p:nvSpPr>
          <p:cNvPr id="453" name="1 Título"/>
          <p:cNvSpPr/>
          <p:nvPr/>
        </p:nvSpPr>
        <p:spPr>
          <a:xfrm>
            <a:off x="187200" y="6130800"/>
            <a:ext cx="6301080" cy="12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CONTROL</a:t>
            </a:r>
            <a:r>
              <a:rPr b="1" lang="es-PY" sz="43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s-PY" sz="2900" spc="-1" strike="noStrike">
                <a:solidFill>
                  <a:srgbClr val="7f7f7f"/>
                </a:solidFill>
                <a:latin typeface="Tahoma"/>
              </a:rPr>
              <a:t>ADUAN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4" name="1 Título" descr=""/>
          <p:cNvPicPr/>
          <p:nvPr/>
        </p:nvPicPr>
        <p:blipFill>
          <a:blip r:embed="rId1"/>
          <a:stretch/>
        </p:blipFill>
        <p:spPr>
          <a:xfrm>
            <a:off x="-189000" y="6046920"/>
            <a:ext cx="6450120" cy="1274760"/>
          </a:xfrm>
          <a:prstGeom prst="rect">
            <a:avLst/>
          </a:prstGeom>
          <a:ln w="0">
            <a:noFill/>
          </a:ln>
        </p:spPr>
      </p:pic>
      <p:pic>
        <p:nvPicPr>
          <p:cNvPr id="455" name="1 Gráfico" descr=""/>
          <p:cNvPicPr/>
          <p:nvPr/>
        </p:nvPicPr>
        <p:blipFill>
          <a:blip r:embed="rId2"/>
          <a:stretch/>
        </p:blipFill>
        <p:spPr>
          <a:xfrm>
            <a:off x="0" y="0"/>
            <a:ext cx="9522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6" name="1 Título" descr=""/>
          <p:cNvPicPr/>
          <p:nvPr/>
        </p:nvPicPr>
        <p:blipFill>
          <a:blip r:embed="rId1"/>
          <a:stretch/>
        </p:blipFill>
        <p:spPr>
          <a:xfrm>
            <a:off x="512640" y="5608800"/>
            <a:ext cx="8575920" cy="155412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2" descr="F:\foto  aerea Drone\P1050572.JPG"/>
          <p:cNvPicPr/>
          <p:nvPr/>
        </p:nvPicPr>
        <p:blipFill>
          <a:blip r:embed="rId2"/>
          <a:stretch/>
        </p:blipFill>
        <p:spPr>
          <a:xfrm>
            <a:off x="0" y="209520"/>
            <a:ext cx="9524880" cy="53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1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23" name="Picture 3" descr="D:\celular 2015\07-vie-01-cp--700x559.jpeg"/>
          <p:cNvPicPr/>
          <p:nvPr/>
        </p:nvPicPr>
        <p:blipFill>
          <a:blip r:embed="rId2"/>
          <a:stretch/>
        </p:blipFill>
        <p:spPr>
          <a:xfrm>
            <a:off x="1008000" y="714240"/>
            <a:ext cx="8502840" cy="6788160"/>
          </a:xfrm>
          <a:prstGeom prst="rect">
            <a:avLst/>
          </a:prstGeom>
          <a:ln w="0">
            <a:noFill/>
          </a:ln>
        </p:spPr>
      </p:pic>
      <p:sp>
        <p:nvSpPr>
          <p:cNvPr id="324" name="1 Título"/>
          <p:cNvSpPr/>
          <p:nvPr/>
        </p:nvSpPr>
        <p:spPr>
          <a:xfrm>
            <a:off x="1041480" y="6396120"/>
            <a:ext cx="8501040" cy="1189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</a:rPr>
              <a:t>Desde diciembre, después de 21 años, Paraguay tiene vuelos directos a Europa, con 2 frecuencias semanales. 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17" descr="C:\Users\vvelazquez\AppData\Local\Microsoft\Windows\Temporary Internet Files\Content.IE5\CDT6OTXG\el-primer-vuelo-de-air-europa-entre-espana-y-paraguay-fue-recibido-esta-manana-_860_573_1314386.jpeg"/>
          <p:cNvPicPr/>
          <p:nvPr/>
        </p:nvPicPr>
        <p:blipFill>
          <a:blip r:embed="rId1"/>
          <a:stretch/>
        </p:blipFill>
        <p:spPr>
          <a:xfrm>
            <a:off x="990720" y="985680"/>
            <a:ext cx="8369280" cy="594864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2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MEJORA LA CONECTIVIDAD A EUROPA – AIR EUROPA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39" name="Picture 17" descr="C:\Users\VVELAZ~1\AppData\Local\Temp\Rar$DI00.461\Resolucion 1362.jpg"/>
          <p:cNvPicPr/>
          <p:nvPr/>
        </p:nvPicPr>
        <p:blipFill>
          <a:blip r:embed="rId3"/>
          <a:stretch/>
        </p:blipFill>
        <p:spPr>
          <a:xfrm>
            <a:off x="990720" y="5816520"/>
            <a:ext cx="4579920" cy="17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0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41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CONECTIVIDAD A CIUDAD DEL ESTE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4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8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53" name="Picture 3" descr="D:\celular 2015\IMG-20150824-WA0088.jpg"/>
          <p:cNvPicPr/>
          <p:nvPr/>
        </p:nvPicPr>
        <p:blipFill>
          <a:blip r:embed="rId2"/>
          <a:stretch/>
        </p:blipFill>
        <p:spPr>
          <a:xfrm>
            <a:off x="1041480" y="1987560"/>
            <a:ext cx="8205840" cy="3801960"/>
          </a:xfrm>
          <a:prstGeom prst="rect">
            <a:avLst/>
          </a:prstGeom>
          <a:ln w="0">
            <a:noFill/>
          </a:ln>
        </p:spPr>
      </p:pic>
      <p:sp>
        <p:nvSpPr>
          <p:cNvPr id="354" name="1 Título"/>
          <p:cNvSpPr/>
          <p:nvPr/>
        </p:nvSpPr>
        <p:spPr>
          <a:xfrm>
            <a:off x="1041480" y="5792760"/>
            <a:ext cx="8205840" cy="84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ctr">
            <a:noAutofit/>
          </a:bodyPr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 algn="just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s-ES" sz="1100" spc="-1" strike="noStrike">
                <a:solidFill>
                  <a:srgbClr val="000000"/>
                </a:solidFill>
                <a:latin typeface="Verdana"/>
              </a:rPr>
              <a:t>Desde setiembre, Amaszonas Paraguay, realiza 2 vuelos diarios a Ciudad del Este, mejorando la conectividad aérea en nuestro país. Los pasajeros se benefician en el ahorro del tiempo de viaje, seguridad y costos competitivos.  </a:t>
            </a: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  <a:p>
            <a:pPr marL="284040" indent="-284040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17" descr="C:\Users\vvelazquez\AppData\Local\Microsoft\Windows\Temporary Internet Files\Content.IE5\CDT6OTXG\Scan_Pic0001.jpg"/>
          <p:cNvPicPr/>
          <p:nvPr/>
        </p:nvPicPr>
        <p:blipFill>
          <a:blip r:embed="rId1"/>
          <a:stretch/>
        </p:blipFill>
        <p:spPr>
          <a:xfrm rot="21063600">
            <a:off x="1146240" y="4511520"/>
            <a:ext cx="4084560" cy="1852920"/>
          </a:xfrm>
          <a:prstGeom prst="rect">
            <a:avLst/>
          </a:prstGeom>
          <a:ln w="0">
            <a:noFill/>
          </a:ln>
        </p:spPr>
      </p:pic>
      <p:pic>
        <p:nvPicPr>
          <p:cNvPr id="356" name="Picture 2" descr="H:\AAPLANOS\KAPPA\DINAC\FONDO2.jpg"/>
          <p:cNvPicPr/>
          <p:nvPr/>
        </p:nvPicPr>
        <p:blipFill>
          <a:blip r:embed="rId2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57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Inicio de vuelos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0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1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7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8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69" name="Picture 2" descr="https://s3-sa-east-1.amazonaws.com/assets.abc.com.py/2016/01/07/una-de-las-aeronaves-de-sol-del-paraguay-_867_573_1321926.jpg"/>
          <p:cNvPicPr/>
          <p:nvPr/>
        </p:nvPicPr>
        <p:blipFill>
          <a:blip r:embed="rId3"/>
          <a:stretch/>
        </p:blipFill>
        <p:spPr>
          <a:xfrm>
            <a:off x="2270160" y="920880"/>
            <a:ext cx="4456080" cy="3139920"/>
          </a:xfrm>
          <a:prstGeom prst="rect">
            <a:avLst/>
          </a:prstGeom>
          <a:ln w="0">
            <a:noFill/>
          </a:ln>
        </p:spPr>
      </p:pic>
      <p:sp>
        <p:nvSpPr>
          <p:cNvPr id="370" name="1 CuadroTexto"/>
          <p:cNvSpPr/>
          <p:nvPr/>
        </p:nvSpPr>
        <p:spPr>
          <a:xfrm>
            <a:off x="1041480" y="6689880"/>
            <a:ext cx="8096040" cy="78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Partiendo desde el Aeropuerto Silvio Pettirossi,  a partir del 13 de enero con una capacidad para 12 pasajeros, más dos pilotos con destino a la ciudad de Encarnación y desde febrero a Pedro Juan Caballero.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71" name="Picture 4" descr="C:\Users\vvelazquez\AppData\Local\Microsoft\Windows\Temporary Internet Files\Content.IE5\6ROQAQMJ\RESOLUCION Nº 15-2016.jpg"/>
          <p:cNvPicPr/>
          <p:nvPr/>
        </p:nvPicPr>
        <p:blipFill>
          <a:blip r:embed="rId4"/>
          <a:stretch/>
        </p:blipFill>
        <p:spPr>
          <a:xfrm rot="21043800">
            <a:off x="5498640" y="4211640"/>
            <a:ext cx="3903840" cy="195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73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4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SOL del Paraguay – vuelo inaugural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5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6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7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8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9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0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1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2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3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4" name="18 CuadroTexto"/>
          <p:cNvSpPr/>
          <p:nvPr/>
        </p:nvSpPr>
        <p:spPr>
          <a:xfrm rot="16200000">
            <a:off x="-1183680" y="2810880"/>
            <a:ext cx="3352680" cy="54972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480" bIns="154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85" name="1 CuadroTexto"/>
          <p:cNvSpPr/>
          <p:nvPr/>
        </p:nvSpPr>
        <p:spPr>
          <a:xfrm>
            <a:off x="1190520" y="7037280"/>
            <a:ext cx="8096400" cy="32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500" spc="-1" strike="noStrike">
                <a:solidFill>
                  <a:srgbClr val="ffffff"/>
                </a:solidFill>
                <a:latin typeface="Verdana"/>
              </a:rPr>
              <a:t>Vuelo inaugural Asunción – Encarnación – Asunción – realizado el 12 de enero de 2016,</a:t>
            </a:r>
            <a:endParaRPr b="0" lang="en-US" sz="1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386" name="Picture 2" descr="C:\Users\vvelazquez\AppData\Local\Microsoft\Windows\Temporary Internet Files\Content.IE5\PWUB810O\el-brindis-de-rigor_863_573_1323629.jpeg"/>
          <p:cNvPicPr/>
          <p:nvPr/>
        </p:nvPicPr>
        <p:blipFill>
          <a:blip r:embed="rId2"/>
          <a:stretch/>
        </p:blipFill>
        <p:spPr>
          <a:xfrm>
            <a:off x="1636560" y="952560"/>
            <a:ext cx="4235760" cy="2998800"/>
          </a:xfrm>
          <a:prstGeom prst="rect">
            <a:avLst/>
          </a:prstGeom>
          <a:ln w="0">
            <a:noFill/>
          </a:ln>
        </p:spPr>
      </p:pic>
      <p:pic>
        <p:nvPicPr>
          <p:cNvPr id="387" name="Picture 2" descr="Haga clic en Opciones"/>
          <p:cNvPicPr/>
          <p:nvPr/>
        </p:nvPicPr>
        <p:blipFill>
          <a:blip r:embed="rId3"/>
          <a:stretch/>
        </p:blipFill>
        <p:spPr>
          <a:xfrm>
            <a:off x="4762440" y="3968640"/>
            <a:ext cx="4241880" cy="30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8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389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0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1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2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3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4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5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6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7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8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9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0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1" name="19 CuadroTexto"/>
          <p:cNvSpPr/>
          <p:nvPr/>
        </p:nvSpPr>
        <p:spPr>
          <a:xfrm>
            <a:off x="1243080" y="5465880"/>
            <a:ext cx="8281800" cy="238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ño 2016 – AISP 2 reun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PIRS – MIDAS –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Realización del Curso de Capacitación sobre evaluación de documentos de viajes para Compañías Aéreas del AISP,  a ser dictado por Dirección General de Migracion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02" name="Picture 20" descr="C:\Users\Usuario\AppData\Local\Microsoft\Windows\Temporary Internet Files\Content.IE5\FT3POMAW\FB_IMG_1464554241249.jpg"/>
          <p:cNvPicPr/>
          <p:nvPr/>
        </p:nvPicPr>
        <p:blipFill>
          <a:blip r:embed="rId2"/>
          <a:stretch/>
        </p:blipFill>
        <p:spPr>
          <a:xfrm>
            <a:off x="4079880" y="2657520"/>
            <a:ext cx="5445000" cy="306396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19" descr="C:\Users\Usuario\AppData\Local\Microsoft\Windows\Temporary Internet Files\Content.IE5\48GUUSPK\FB_IMG_1464554253751.jpg"/>
          <p:cNvPicPr/>
          <p:nvPr/>
        </p:nvPicPr>
        <p:blipFill>
          <a:blip r:embed="rId3"/>
          <a:stretch/>
        </p:blipFill>
        <p:spPr>
          <a:xfrm>
            <a:off x="946080" y="857160"/>
            <a:ext cx="44370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Picture 2" descr="H:\AAPLANOS\KAPPA\DINAC\FONDO2.jpg"/>
          <p:cNvPicPr/>
          <p:nvPr/>
        </p:nvPicPr>
        <p:blipFill>
          <a:blip r:embed="rId1"/>
          <a:stretch/>
        </p:blipFill>
        <p:spPr>
          <a:xfrm>
            <a:off x="171360" y="6934320"/>
            <a:ext cx="750960" cy="561960"/>
          </a:xfrm>
          <a:prstGeom prst="rect">
            <a:avLst/>
          </a:prstGeom>
          <a:ln w="0">
            <a:noFill/>
          </a:ln>
        </p:spPr>
      </p:pic>
      <p:sp>
        <p:nvSpPr>
          <p:cNvPr id="405" name="6 Rectángulo"/>
          <p:cNvSpPr/>
          <p:nvPr/>
        </p:nvSpPr>
        <p:spPr>
          <a:xfrm>
            <a:off x="171360" y="952560"/>
            <a:ext cx="722520" cy="4205160"/>
          </a:xfrm>
          <a:prstGeom prst="rect">
            <a:avLst/>
          </a:prstGeom>
          <a:gradFill rotWithShape="0">
            <a:gsLst>
              <a:gs pos="0">
                <a:srgbClr val="8f8e8a"/>
              </a:gs>
              <a:gs pos="100000">
                <a:srgbClr val="f5f4ec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6" name="8 Rectángulo"/>
          <p:cNvSpPr/>
          <p:nvPr/>
        </p:nvSpPr>
        <p:spPr>
          <a:xfrm>
            <a:off x="1041480" y="237960"/>
            <a:ext cx="6769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Century Gothic"/>
              </a:rPr>
              <a:t>PRINCIPALES TEMAS TRATADOS EN COMITÉ FAL AEROPUERTO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7" name="9 Rectángulo"/>
          <p:cNvSpPr/>
          <p:nvPr/>
        </p:nvSpPr>
        <p:spPr>
          <a:xfrm>
            <a:off x="171360" y="5321160"/>
            <a:ext cx="750960" cy="3034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8" name="10 Rectángulo"/>
          <p:cNvSpPr/>
          <p:nvPr/>
        </p:nvSpPr>
        <p:spPr>
          <a:xfrm>
            <a:off x="171360" y="5789520"/>
            <a:ext cx="750960" cy="274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9" name="11 Rectángulo"/>
          <p:cNvSpPr/>
          <p:nvPr/>
        </p:nvSpPr>
        <p:spPr>
          <a:xfrm>
            <a:off x="171360" y="6256440"/>
            <a:ext cx="750960" cy="22068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0" name="12 Rectángulo"/>
          <p:cNvSpPr/>
          <p:nvPr/>
        </p:nvSpPr>
        <p:spPr>
          <a:xfrm>
            <a:off x="171360" y="6640560"/>
            <a:ext cx="750960" cy="138240"/>
          </a:xfrm>
          <a:prstGeom prst="rect">
            <a:avLst/>
          </a:prstGeom>
          <a:gradFill rotWithShape="0">
            <a:gsLst>
              <a:gs pos="0">
                <a:srgbClr val="254872"/>
              </a:gs>
              <a:gs pos="100000">
                <a:srgbClr val="4780c5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1" name="13 Rectángulo"/>
          <p:cNvSpPr/>
          <p:nvPr/>
        </p:nvSpPr>
        <p:spPr>
          <a:xfrm>
            <a:off x="7923240" y="236520"/>
            <a:ext cx="29196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2" name="14 Rectángulo"/>
          <p:cNvSpPr/>
          <p:nvPr/>
        </p:nvSpPr>
        <p:spPr>
          <a:xfrm>
            <a:off x="8304120" y="233280"/>
            <a:ext cx="225360" cy="5508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15 Rectángulo"/>
          <p:cNvSpPr/>
          <p:nvPr/>
        </p:nvSpPr>
        <p:spPr>
          <a:xfrm>
            <a:off x="8620200" y="236520"/>
            <a:ext cx="18108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4" name="16 Rectángulo"/>
          <p:cNvSpPr/>
          <p:nvPr/>
        </p:nvSpPr>
        <p:spPr>
          <a:xfrm>
            <a:off x="8889840" y="236520"/>
            <a:ext cx="1573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5" name="17 Rectángulo"/>
          <p:cNvSpPr/>
          <p:nvPr/>
        </p:nvSpPr>
        <p:spPr>
          <a:xfrm>
            <a:off x="9137520" y="236520"/>
            <a:ext cx="90720" cy="5526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6" name="18 CuadroTexto"/>
          <p:cNvSpPr/>
          <p:nvPr/>
        </p:nvSpPr>
        <p:spPr>
          <a:xfrm rot="16200000">
            <a:off x="-1183320" y="2810520"/>
            <a:ext cx="3352680" cy="55044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31320" rIns="31320" tIns="15840" bIns="158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700" spc="-1" strike="noStrike">
                <a:solidFill>
                  <a:srgbClr val="ffffff"/>
                </a:solidFill>
                <a:latin typeface="BankGothic Md BT"/>
              </a:rPr>
              <a:t>DIRECCION NACIONAL DE AERONAUTICA CIVIL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7" name="19 CuadroTexto"/>
          <p:cNvSpPr/>
          <p:nvPr/>
        </p:nvSpPr>
        <p:spPr>
          <a:xfrm>
            <a:off x="1017720" y="5249880"/>
            <a:ext cx="8281800" cy="211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7920" rIns="97920" tIns="48960" bIns="4896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Auditoria OACI – Fecha  5-13 de setiembre/16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grama de Asistencia de victimas de accidentes de Aviación y a sus familiare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lvl="2" marL="1228680" indent="-457200">
              <a:lnSpc>
                <a:spcPct val="100000"/>
              </a:lnSpc>
              <a:buClr>
                <a:srgbClr val="ffffff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Proyecto del Programa FAL del Aeropuerto AISP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418" name="Picture 18" descr="C:\Users\Usuario\AppData\Local\Microsoft\Windows\Temporary Internet Files\Content.IE5\NV7QA57M\FB_IMG_1464554268984.jpg"/>
          <p:cNvPicPr/>
          <p:nvPr/>
        </p:nvPicPr>
        <p:blipFill>
          <a:blip r:embed="rId2"/>
          <a:stretch/>
        </p:blipFill>
        <p:spPr>
          <a:xfrm>
            <a:off x="1090440" y="1001880"/>
            <a:ext cx="794412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9-08T20:50:20Z</dcterms:created>
  <dc:creator>Margaret Kennedy</dc:creator>
  <dc:description/>
  <dc:language>en-US</dc:language>
  <cp:lastModifiedBy>Victor Velazquez</cp:lastModifiedBy>
  <cp:lastPrinted>2014-08-04T16:47:21Z</cp:lastPrinted>
  <dcterms:modified xsi:type="dcterms:W3CDTF">2016-07-26T11:19:28Z</dcterms:modified>
  <cp:revision>787</cp:revision>
  <dc:subject/>
  <dc:title>SNRE Proyecto SPR</dc:title>
</cp:coreProperties>
</file>